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2456-604F-4321-A1E5-033113FD1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43BF-027F-4295-8D22-6D098AC7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A607-69DA-4CAA-9564-DAA8677D1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8BBD-A084-4C95-A150-DAD82F8DE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536E-F8EF-4172-9CEF-9CF5C1CD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EB25-E52A-425D-8B2C-F70DB9ED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F93F-D16C-4C7E-9E8C-C49A42BF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8D40-DB53-4148-B424-699C3C9A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9508-96BE-49A2-87BF-D3F2BC07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6284-2EA4-4479-A032-06AF20D5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1EE5-4955-4F60-AC3D-CD754404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C5AA-30DB-497A-9679-7A936B5A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9035-5568-4A17-83E8-8FB85F11EFE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C11B-0D3F-43FA-A689-5E06FDD84A6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3440" y="1557360"/>
            <a:ext cx="7772400" cy="16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Calibri"/>
              </a:rPr>
              <a:t>Řídící výbor</a:t>
            </a:r>
            <a:br>
              <a:rPr sz="4400"/>
            </a:br>
            <a:r>
              <a:rPr b="1" lang="cs-CZ" sz="4400" spc="-1" strike="noStrike">
                <a:solidFill>
                  <a:srgbClr val="0070c0"/>
                </a:solidFill>
                <a:latin typeface="Calibri"/>
              </a:rPr>
              <a:t>„MAP ORP Karlovy Vary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640" y="3357720"/>
            <a:ext cx="3960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Magistrát města Karlovy V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22. 9. 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971640" y="115920"/>
            <a:ext cx="7235640" cy="1606680"/>
          </a:xfrm>
          <a:prstGeom prst="rect">
            <a:avLst/>
          </a:prstGeom>
          <a:ln w="0">
            <a:noFill/>
          </a:ln>
        </p:spPr>
      </p:pic>
      <p:sp>
        <p:nvSpPr>
          <p:cNvPr id="44" name="Zástupný symbol pro zápatí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Obrázek 8" descr=""/>
          <p:cNvPicPr/>
          <p:nvPr/>
        </p:nvPicPr>
        <p:blipFill>
          <a:blip r:embed="rId2"/>
          <a:stretch/>
        </p:blipFill>
        <p:spPr>
          <a:xfrm>
            <a:off x="5435640" y="3357720"/>
            <a:ext cx="29653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Zástupný symbol pro zápatí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79280" y="44280"/>
          <a:ext cx="8713800" cy="6456600"/>
        </p:xfrm>
        <a:graphic>
          <a:graphicData uri="http://schemas.openxmlformats.org/drawingml/2006/table">
            <a:tbl>
              <a:tblPr/>
              <a:tblGrid>
                <a:gridCol w="4356360"/>
                <a:gridCol w="4357440"/>
              </a:tblGrid>
              <a:tr h="605160">
                <a:tc gridSpan="2">
                  <a:txBody>
                    <a:bodyPr lIns="67320" rIns="67320" tIns="0" bIns="0" anchor="ctr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OT Kvalita a motivac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0160">
                <a:tc>
                  <a:txBody>
                    <a:bodyPr lIns="67320" rIns="67320" tIns="0" bIns="0" anchor="ctr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LNÉ STRÁNKY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ABÉ STRÁNKY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2003400">
                <a:tc>
                  <a:txBody>
                    <a:bodyPr lIns="67320" rIns="673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rajina a prostředí, historie a kultura v regionu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hotní učitelé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bídka volnočasových aktivit pro děti a žáky, programy zájmového a neformálního vzdělávání pro školy, spolupráce s knihovnami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lký podíl nekvalifikovaných pedagogů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ělanostní struktura obyvatel, odliv obyvatel z venkova, nesoulad mezi poptávkou a nabídkou na trhu prác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dostatky v rozvoji gramotností (spolupráce, málo času, malé povědomí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513000"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LEŽITOSTI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ROŽENÍ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2774880">
                <a:tc>
                  <a:txBody>
                    <a:bodyPr lIns="67320" rIns="673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lupráce a sdílení zkušeností (školy, zaměstnavatelé, zájmové a neformální, přeshraniční spolupráce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azkové škol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kty na podporu gramotností, kvalitní DVPP, leadership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ematičnost individuálního přístupu ve velkých školách s velkým počtem žáků ve třídách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hlubování problémů spojených se sociálním vyloučení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rozlišení kvalit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Zástupný symbol pro zápatí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9280" y="44280"/>
          <a:ext cx="8713800" cy="6456600"/>
        </p:xfrm>
        <a:graphic>
          <a:graphicData uri="http://schemas.openxmlformats.org/drawingml/2006/table">
            <a:tbl>
              <a:tblPr/>
              <a:tblGrid>
                <a:gridCol w="4356360"/>
                <a:gridCol w="4357440"/>
              </a:tblGrid>
              <a:tr h="605160">
                <a:tc gridSpan="2">
                  <a:txBody>
                    <a:bodyPr lIns="67320" rIns="67320" tIns="0" bIns="0" anchor="ctr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OT Inkluze = vzděláváme se spolu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0160">
                <a:tc>
                  <a:txBody>
                    <a:bodyPr lIns="67320" rIns="67320" tIns="0" bIns="0" anchor="ctr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LNÉ STRÁNKY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ABÉ STRÁNKY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2003400">
                <a:tc>
                  <a:txBody>
                    <a:bodyPr lIns="67320" rIns="673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istence škol uplatňujících inkluzi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lupráce s Agenturou pro sociální začleňování a NNO (Člověk v tísni, Český západ apod.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ování asistentů pedagoga z KV kraj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nožství sociálně vyloučených lokali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dostatek financí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dostatečná informovanost rodičů a škol, co dělat v neobvyklé situaci (kam se obrátit o pomoc – lékaři, poradny, školy, atd.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513000"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LEŽITOSTI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ROŽENÍ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2774880">
                <a:tc>
                  <a:txBody>
                    <a:bodyPr lIns="67320" rIns="673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rozvoj spolupráce s Agenturou pro sociální začleňování (projekty v rámci koordinovaného přístupu, zapojení dalších lokalit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dšení učitelé a ředitelé škol pro práci se všemi dětmi a žák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lupráce – efektivní řešení problematických situací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dsudk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dostatek kvalifikovaných odborníků, absence pedagogické fakult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systematičnost změn, nepochopení změn, nedostatek financí (včetně financí na volnočasové aktivity a práci s rodinami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Zástupný symbol pro zápatí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50920" y="549360"/>
          <a:ext cx="8424720" cy="4821120"/>
        </p:xfrm>
        <a:graphic>
          <a:graphicData uri="http://schemas.openxmlformats.org/drawingml/2006/table">
            <a:tbl>
              <a:tblPr/>
              <a:tblGrid>
                <a:gridCol w="1800000"/>
                <a:gridCol w="2413080"/>
                <a:gridCol w="2195640"/>
                <a:gridCol w="2016000"/>
              </a:tblGrid>
              <a:tr h="33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ruh rizik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ávažnost rizika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3 – významné,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 – méně významné, 1 – nevýznamné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avděpodobnost  (četnost) výskytu (3 – pravděpodobné,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 – méně pravděpodobné,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  nepravdědobné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ředcházení, eliminace rizik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ční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ávní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ační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ěcná/technická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Calibri"/>
              </a:rPr>
              <a:t>Proč děláme projekt „MAP ORP Karlovy Vary“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alibri"/>
              </a:rPr>
              <a:t>Cíle projektu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Investiční záměry škol a vzdělávacích institucí  do IROPu povinně ve Strategickém rám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OPVVV – další kola výzev na šablo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OPVVV – projekty spoluprá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rohlubování spolupráce a další pokračování spolupráce v územ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alibri"/>
              </a:rPr>
              <a:t>Co jsme udělali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Řídící výb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etkání v územ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racovní skupi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dílení zkušeností – ukázková hodina pro učitele 1. stupně Z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onzultace k investičním záměrů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Dokumenty: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trategický ráme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Analytická část místního akčního plá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Zástupný symbol pro zápatí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Calibri"/>
              </a:rPr>
              <a:t>Co budeme ještě děla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dílení zkušenost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Ředitelky a učitelky MŠ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Učitelé 2. stupně ZŠ: chemie, fyzika, přírodop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Učitelé 2. stupně ZŠ: matematika, dějepis, občanská nau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Ředitelé a učitelé škol: inklu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racovní skupi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Akční plánová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Zástupný symbol pro zápatí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C:\Users\Správa\AppData\Local\Microsoft\Windows\INetCache\IE\87DNB060\ico-vanocni-stromek[1].jpg"/>
          <p:cNvPicPr/>
          <p:nvPr/>
        </p:nvPicPr>
        <p:blipFill>
          <a:blip r:embed="rId1"/>
          <a:stretch/>
        </p:blipFill>
        <p:spPr>
          <a:xfrm>
            <a:off x="6019920" y="3357720"/>
            <a:ext cx="276516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476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Calibri"/>
              </a:rPr>
              <a:t>Vize: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70c0"/>
                </a:solidFill>
                <a:latin typeface="Calibri"/>
              </a:rPr>
              <a:t>Chceme, aby Karlovarsko bylo místem příležitostí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Zástupný symbol pro zápatí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4" descr=""/>
          <p:cNvPicPr/>
          <p:nvPr/>
        </p:nvPicPr>
        <p:blipFill>
          <a:blip r:embed="rId1"/>
          <a:stretch/>
        </p:blipFill>
        <p:spPr>
          <a:xfrm>
            <a:off x="1735200" y="2565360"/>
            <a:ext cx="576108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trategický rámec – priority a cí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Zástupný symbol pro zápatí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39640" y="1197000"/>
          <a:ext cx="7704360" cy="4464000"/>
        </p:xfrm>
        <a:graphic>
          <a:graphicData uri="http://schemas.openxmlformats.org/drawingml/2006/table">
            <a:tbl>
              <a:tblPr/>
              <a:tblGrid>
                <a:gridCol w="7704360"/>
              </a:tblGrid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orita</a:t>
                      </a:r>
                      <a:r>
                        <a:rPr b="1" lang="cs-CZ" sz="2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.</a:t>
                      </a:r>
                      <a:r>
                        <a:rPr b="1" lang="cs-CZ" sz="2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:</a:t>
                      </a:r>
                      <a:r>
                        <a:rPr b="1" lang="cs-CZ" sz="2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</a:t>
                      </a:r>
                      <a:r>
                        <a:rPr b="1" lang="cs-CZ" sz="2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r>
                        <a:rPr b="1" lang="cs-CZ" sz="2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bavení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íl 1.1 Odborné učebny na ZŠ a MŠ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íl 1.2 Sport na ZŠ a MŠ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íl 1.3 Technický stav objektů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íl 1.4 Kapacita ZŠ a MŠ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íl 1.5 Infrastruktura pro zájmové a neformální vzdělávání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íl 1.6 Infrastruktura pro ZUŠ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trategický rámec – priority a cí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Zástupný symbol pro zápatí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9640" y="1197000"/>
          <a:ext cx="7704360" cy="3189240"/>
        </p:xfrm>
        <a:graphic>
          <a:graphicData uri="http://schemas.openxmlformats.org/drawingml/2006/table">
            <a:tbl>
              <a:tblPr/>
              <a:tblGrid>
                <a:gridCol w="7704360"/>
              </a:tblGrid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orita</a:t>
                      </a:r>
                      <a:r>
                        <a:rPr b="1" lang="cs-CZ" sz="2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.</a:t>
                      </a:r>
                      <a:r>
                        <a:rPr b="1" lang="cs-CZ" sz="2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:</a:t>
                      </a:r>
                      <a:r>
                        <a:rPr b="1" lang="cs-CZ" sz="2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valita a motivac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íl 2.1 Kompetentní a motivovaní aktéři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íl 2.2 Volba povolání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íl 2.3 Odborné kompetenc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íl 2.4 Kvalita aktivit volného čas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trategický rámec – priority a cí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Zástupný symbol pro zápatí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39640" y="1197000"/>
          <a:ext cx="7704360" cy="1913040"/>
        </p:xfrm>
        <a:graphic>
          <a:graphicData uri="http://schemas.openxmlformats.org/drawingml/2006/table">
            <a:tbl>
              <a:tblPr/>
              <a:tblGrid>
                <a:gridCol w="7704360"/>
              </a:tblGrid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orita</a:t>
                      </a:r>
                      <a:r>
                        <a:rPr b="1" lang="cs-CZ" sz="2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.</a:t>
                      </a:r>
                      <a:r>
                        <a:rPr b="1" lang="cs-CZ" sz="2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:</a:t>
                      </a:r>
                      <a:r>
                        <a:rPr b="1" lang="cs-CZ" sz="2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kluze = vzděláváme se spolu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íl 3.1 Toleranc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íl 3.2 Společné vzdělávání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ástupný symbol pro zápatí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79280" y="44280"/>
          <a:ext cx="8713800" cy="6658200"/>
        </p:xfrm>
        <a:graphic>
          <a:graphicData uri="http://schemas.openxmlformats.org/drawingml/2006/table">
            <a:tbl>
              <a:tblPr/>
              <a:tblGrid>
                <a:gridCol w="4356360"/>
                <a:gridCol w="4357440"/>
              </a:tblGrid>
              <a:tr h="605160">
                <a:tc gridSpan="2">
                  <a:txBody>
                    <a:bodyPr lIns="67320" rIns="67320" tIns="0" bIns="0" anchor="ctr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OT Infrastruktura a vybavení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0160">
                <a:tc>
                  <a:txBody>
                    <a:bodyPr lIns="67320" rIns="67320" tIns="0" bIns="0" anchor="ctr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LNÉ STRÁNKY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ABÉ STRÁNKY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2003400">
                <a:tc>
                  <a:txBody>
                    <a:bodyPr lIns="67320" rIns="673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lupráce škol a zřizovatelů, ochota spolufinancování projektů škol ze strany zřizovatelů, hlavně větších měs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íme, co potřebujem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 malých obcí jako zřizovatelů nejsou finanční prostředky ani na provoz a obnovu infrastruktury ško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ybí dílny a pozemky, zastaralé vybavení odborných učebe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pacita škol – někde chybí kapacita, jinde málo žáci a nenaplněné školy 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513000"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LEŽITOSTI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ROŽENÍ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2976480">
                <a:tc>
                  <a:txBody>
                    <a:bodyPr lIns="67320" rIns="673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žnost financování z dotačních prostředků (IROP, MŠMT – národní dotace, přeshraniční spolupráce, CLLD, IPRÚ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řizování svazkových ško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lupráce v území vzájemně mezi školami, zřizovateli, spolupráce se zaměstnavateli a s KHKK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žitost pravidel a administrace IROPu, školy a zřizovatelé nemají personální kapacity na ŽoD a dotační manageme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stavení pravidel IROPu: MŠ nemohou z IROPu žádat o nic jiného než rozšíření kapacity, zájmové a neformální vzdělávání může žádat do IROPu jen na klíčové kompetence IROPu, chybí dotační možnosti pro ZUŠ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2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schválení nebo prodlužování procesu schvalování IPRÚ a CLLD, změny pravidel IROPu „za pochodu“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1T11:34:39Z</dcterms:created>
  <dc:creator>Uzivatwel R25</dc:creator>
  <dc:description/>
  <dc:language>en-US</dc:language>
  <cp:lastModifiedBy>Správa</cp:lastModifiedBy>
  <cp:lastPrinted>2016-09-21T08:32:31Z</cp:lastPrinted>
  <dcterms:modified xsi:type="dcterms:W3CDTF">2016-09-21T08:34:03Z</dcterms:modified>
  <cp:revision>46</cp:revision>
  <dc:subject/>
  <dc:title>Setkání ředitelů škol v rámci projektu MAP ORP Sokolov</dc:title>
</cp:coreProperties>
</file>