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1E85-9A79-42B8-A5DD-121880AC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D66F-4774-4AED-815C-DDEB8028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37FE-F669-444A-82B8-64775BC2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8145-4ED0-4F37-B21C-AC9BF74A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39E1-6E6A-4774-ABBE-355564D5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8AE9-CCF2-4514-8240-0F63876A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377-F394-47EB-B558-C42ADC84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2F9-1EB9-48C6-B045-5000B858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98F-64AF-4189-BEC5-E55022E2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88F-3CFB-41E8-BD1B-3FCE3118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444-3329-4823-8699-165C9A6E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EE9-42F2-4AB2-8B94-88992670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0726-910F-4E73-97CD-39E01EE4641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4AFA-0A62-4CEE-9376-FFFF74EB9A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3440" y="155736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Calibri"/>
              </a:rPr>
              <a:t>Řídící výbor</a:t>
            </a:r>
            <a:br>
              <a:rPr sz="4400"/>
            </a:br>
            <a:r>
              <a:rPr b="1" lang="cs-CZ" sz="4400" spc="-1" strike="noStrike">
                <a:solidFill>
                  <a:srgbClr val="0070c0"/>
                </a:solidFill>
                <a:latin typeface="Calibri"/>
              </a:rPr>
              <a:t>„MAP ORP Karlovy Vary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3357720"/>
            <a:ext cx="396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agistrát města Karlovy V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22. 9.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971640" y="115920"/>
            <a:ext cx="7235640" cy="1606680"/>
          </a:xfrm>
          <a:prstGeom prst="rect">
            <a:avLst/>
          </a:prstGeom>
          <a:ln w="0">
            <a:noFill/>
          </a:ln>
        </p:spPr>
      </p:pic>
      <p:sp>
        <p:nvSpPr>
          <p:cNvPr id="44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ázek 8" descr=""/>
          <p:cNvPicPr/>
          <p:nvPr/>
        </p:nvPicPr>
        <p:blipFill>
          <a:blip r:embed="rId2"/>
          <a:stretch/>
        </p:blipFill>
        <p:spPr>
          <a:xfrm>
            <a:off x="5435640" y="3357720"/>
            <a:ext cx="2965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zápatí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9280" y="44280"/>
          <a:ext cx="8713800" cy="6456600"/>
        </p:xfrm>
        <a:graphic>
          <a:graphicData uri="http://schemas.openxmlformats.org/drawingml/2006/table">
            <a:tbl>
              <a:tblPr/>
              <a:tblGrid>
                <a:gridCol w="4356360"/>
                <a:gridCol w="4357440"/>
              </a:tblGrid>
              <a:tr h="60516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OT Kvalita a motivac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160">
                <a:tc>
                  <a:txBody>
                    <a:bodyPr lIns="67320" rIns="6732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NÉ STRÁNK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ABÉ STRÁNK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003400"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jina a prostředí, historie a kultura v regionu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hotní učitelé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bídka volnočasových aktivit pro děti a žáky, programy zájmového a neformálního vzdělávání pro školy, spolupráce s knihovnami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lký podíl nekvalifikovaných pedagogů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anostní struktura obyvatel, odliv obyvatel z venkova, nesoulad mezi poptávkou a nabídkou na trhu prá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dostatky v rozvoji gramotností (spolupráce, málo času, malé povědomí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513000"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LEŽITOST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ROŽENÍ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774880"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upráce a sdílení zkušeností (školy, zaměstnavatelé, zájmové a neformální, přeshraniční spolupráce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azkové škol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kty na podporu gramotností, kvalitní DVPP, leadership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atičnost individuálního přístupu ve velkých školách s velkým počtem žáků ve třídác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hlubování problémů spojených se sociálním vyloučení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ozlišení kvalit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ástupný symbol pro zápatí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44280"/>
          <a:ext cx="8713800" cy="6456600"/>
        </p:xfrm>
        <a:graphic>
          <a:graphicData uri="http://schemas.openxmlformats.org/drawingml/2006/table">
            <a:tbl>
              <a:tblPr/>
              <a:tblGrid>
                <a:gridCol w="4356360"/>
                <a:gridCol w="4357440"/>
              </a:tblGrid>
              <a:tr h="60516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OT Inkluze = vzděláváme se spolu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160">
                <a:tc>
                  <a:txBody>
                    <a:bodyPr lIns="67320" rIns="6732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NÉ STRÁNK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ABÉ STRÁNK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2003400"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istence škol uplatňujících inkluzi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upráce s Agenturou pro sociální začleňování a NNO (Člověk v tísni, Český západ apod.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ování asistentů pedagoga z KV kraj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nožství sociálně vyloučených lokali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dostatek financí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dostatečná informovanost rodičů a škol, co dělat v neobvyklé situaci (kam se obrátit o pomoc – lékaři, poradny, školy, atd.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513000"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LEŽITOST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ROŽENÍ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2774880"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rozvoj spolupráce s Agenturou pro sociální začleňování (projekty v rámci koordinovaného přístupu, zapojení dalších lokalit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dšení učitelé a ředitelé škol pro práci se všemi dětmi a žák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upráce – efektivní řešení problematických situací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sudk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dostatek kvalifikovaných odborníků, absence pedagogické fakult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ystematičnost změn, nepochopení změn, nedostatek financí (včetně financí na volnočasové aktivity a práci s rodinami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ástupný symbol pro zápatí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50920" y="549360"/>
          <a:ext cx="8424720" cy="4821120"/>
        </p:xfrm>
        <a:graphic>
          <a:graphicData uri="http://schemas.openxmlformats.org/drawingml/2006/table">
            <a:tbl>
              <a:tblPr/>
              <a:tblGrid>
                <a:gridCol w="1800000"/>
                <a:gridCol w="2413080"/>
                <a:gridCol w="2195640"/>
                <a:gridCol w="2016000"/>
              </a:tblGrid>
              <a:tr h="33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ruh rizik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ávažnost rizika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3 – významné,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– méně významné, 1 – nevýznamné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vděpodobnost  (četnost) výskytu (3 – pravděpodobné,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– méně pravděpodobné,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 nepravdědobné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ředcházení, eliminace rizik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ční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ní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ční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ěcná/technická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Calibri"/>
              </a:rPr>
              <a:t>Proč děláme projekt „MAP ORP Karlovy Vary“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Cíle projektu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Investiční záměry škol a vzdělávacích institucí  do IROPu povinně ve Strategickém rám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PVVV – další kola výzev na šabl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PVVV – projekty spoluprá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ohlubování spolupráce a další pokračování spolupráce v územ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Co jsme udělali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Řídící vý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etkání v územ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acovní skupi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dílení zkušeností – ukázková hodina pro učitele 1. stupně Z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onzultace k investičním záměrů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Dokument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trategický rám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nalytická část místního akčního plá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Calibri"/>
              </a:rPr>
              <a:t>Co budeme ještě děla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dílení zkušenost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Ředitelky a učitelky MŠ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Učitelé 2. stupně ZŠ: chemie, fyzika, přírodop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Učitelé 2. stupně ZŠ: matematika, dějepis, občanská nau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Ředitelé a učitelé škol: inklu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acovní skupi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Akční pláno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:\Users\Správa\AppData\Local\Microsoft\Windows\INetCache\IE\87DNB060\ico-vanocni-stromek[1].jpg"/>
          <p:cNvPicPr/>
          <p:nvPr/>
        </p:nvPicPr>
        <p:blipFill>
          <a:blip r:embed="rId1"/>
          <a:stretch/>
        </p:blipFill>
        <p:spPr>
          <a:xfrm>
            <a:off x="6019920" y="3357720"/>
            <a:ext cx="276516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Calibri"/>
              </a:rPr>
              <a:t>Vize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70c0"/>
                </a:solidFill>
                <a:latin typeface="Calibri"/>
              </a:rPr>
              <a:t>Chceme, aby Karlovarsko bylo místem příležitostí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4" descr=""/>
          <p:cNvPicPr/>
          <p:nvPr/>
        </p:nvPicPr>
        <p:blipFill>
          <a:blip r:embed="rId1"/>
          <a:stretch/>
        </p:blipFill>
        <p:spPr>
          <a:xfrm>
            <a:off x="1735200" y="2565360"/>
            <a:ext cx="57610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trategický rámec – priority a cí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1197000"/>
          <a:ext cx="7704360" cy="4464000"/>
        </p:xfrm>
        <a:graphic>
          <a:graphicData uri="http://schemas.openxmlformats.org/drawingml/2006/table">
            <a:tbl>
              <a:tblPr/>
              <a:tblGrid>
                <a:gridCol w="770436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ita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.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bavení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1.1 Odborné učebny na ZŠ a MŠ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1.2 Sport na ZŠ a MŠ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1.3 Technický stav objektů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1.4 Kapacita ZŠ a MŠ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1.5 Infrastruktura pro zájmové a neformální vzdělávání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1.6 Infrastruktura pro ZUŠ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trategický rámec – priority a cí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1197000"/>
          <a:ext cx="7704360" cy="3189240"/>
        </p:xfrm>
        <a:graphic>
          <a:graphicData uri="http://schemas.openxmlformats.org/drawingml/2006/table">
            <a:tbl>
              <a:tblPr/>
              <a:tblGrid>
                <a:gridCol w="770436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ita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.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: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valita a motivac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2.1 Kompetentní a motivovaní aktéř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2.2 Volba povolání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2.3 Odborné kompetenc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2.4 Kvalita aktivit volného čas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trategický rámec – priority a cí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9640" y="1197000"/>
          <a:ext cx="7704360" cy="1913040"/>
        </p:xfrm>
        <a:graphic>
          <a:graphicData uri="http://schemas.openxmlformats.org/drawingml/2006/table">
            <a:tbl>
              <a:tblPr/>
              <a:tblGrid>
                <a:gridCol w="770436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ita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.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: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kluze = vzděláváme se spolu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3.1 Toleranc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3.2 Společné vzdělávání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ástupný symbol pro zápatí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9280" y="44280"/>
          <a:ext cx="8713800" cy="6658200"/>
        </p:xfrm>
        <a:graphic>
          <a:graphicData uri="http://schemas.openxmlformats.org/drawingml/2006/table">
            <a:tbl>
              <a:tblPr/>
              <a:tblGrid>
                <a:gridCol w="4356360"/>
                <a:gridCol w="4357440"/>
              </a:tblGrid>
              <a:tr h="60516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OT Infrastruktura a vybavení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160">
                <a:tc>
                  <a:txBody>
                    <a:bodyPr lIns="67320" rIns="6732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NÉ STRÁNK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ABÉ STRÁNK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2003400"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upráce škol a zřizovatelů, ochota spolufinancování projektů škol ze strany zřizovatelů, hlavně větších měs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íme, co potřebuje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malých obcí jako zřizovatelů nejsou finanční prostředky ani na provoz a obnovu infrastruktury ško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ybí dílny a pozemky, zastaralé vybavení odborných učeb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pacita škol – někde chybí kapacita, jinde málo žáci a nenaplněné školy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513000"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LEŽITOST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ROŽENÍ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2976480"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žnost financování z dotačních prostředků (IROP, MŠMT – národní dotace, přeshraniční spolupráce, CLLD, IPRÚ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řizování svazkových ško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upráce v území vzájemně mezi školami, zřizovateli, spolupráce se zaměstnavateli a s KHK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žitost pravidel a administrace IROPu, školy a zřizovatelé nemají personální kapacity na ŽoD a dotační managem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stavení pravidel IROPu: MŠ nemohou z IROPu žádat o nic jiného než rozšíření kapacity, zájmové a neformální vzdělávání může žádat do IROPu jen na klíčové kompetence IROPu, chybí dotační možnosti pro ZUŠ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chválení nebo prodlužování procesu schvalování IPRÚ a CLLD, změny pravidel IROPu „za pochodu“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1T11:34:39Z</dcterms:created>
  <dc:creator>Uzivatwel R25</dc:creator>
  <dc:description/>
  <dc:language>en-US</dc:language>
  <cp:lastModifiedBy>Správa</cp:lastModifiedBy>
  <cp:lastPrinted>2016-09-21T08:32:31Z</cp:lastPrinted>
  <dcterms:modified xsi:type="dcterms:W3CDTF">2016-09-21T08:34:03Z</dcterms:modified>
  <cp:revision>46</cp:revision>
  <dc:subject/>
  <dc:title>Setkání ředitelů škol v rámci projektu MAP ORP Sokolov</dc:title>
</cp:coreProperties>
</file>