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771-63BD-4FCE-B5F6-A2877603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32C-2896-432F-B913-6D387DFB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06B-370C-41BF-975F-D9F95B43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C0B-3657-4932-AE99-CB1E9563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826-18C9-4F6D-A2CC-5169B62E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C65-646F-4F6B-8AAE-20167EAC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30C-3D6F-42BD-8951-9008065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24F-BFE1-4377-AC5A-F2A9C85E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0AA-38E5-4DB2-A54B-66D6FBD5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66A-48E6-4EE3-BE19-ED476F3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45E-8185-4729-A672-44375C66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658-B0BD-4142-A388-778C4A7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3A20-0D87-475D-B465-D5952407FA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EF8B-A9DE-45CC-931D-0C1AC20FF5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Setkání s aktéry projektu </a:t>
            </a:r>
            <a:br>
              <a:rPr sz="4400"/>
            </a:b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„MAP ORP Karlovy Vary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35772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roznatova akademie Klášter premonstrátů v Tep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5. 9.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00000" y="33480"/>
            <a:ext cx="7236000" cy="1606320"/>
          </a:xfrm>
          <a:prstGeom prst="rect">
            <a:avLst/>
          </a:prstGeom>
          <a:ln w="0">
            <a:noFill/>
          </a:ln>
        </p:spPr>
      </p:pic>
      <p:sp>
        <p:nvSpPr>
          <p:cNvPr id="44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8" descr=""/>
          <p:cNvPicPr/>
          <p:nvPr/>
        </p:nvPicPr>
        <p:blipFill>
          <a:blip r:embed="rId2"/>
          <a:stretch/>
        </p:blipFill>
        <p:spPr>
          <a:xfrm>
            <a:off x="5435640" y="3357720"/>
            <a:ext cx="2965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o, kde a kdy máme v projektu uděl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o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lánovat v oblasti výchovy a vzdělávání</a:t>
            </a:r>
            <a:r>
              <a:rPr b="1" lang="cs-CZ" sz="3600" spc="-1" strike="noStrike">
                <a:solidFill>
                  <a:srgbClr val="31859c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okumenty: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ístní akční plán rozvoje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rategický rám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voj spolu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Kde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území správního obvodu ORP K. Vary a města Tepl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Kd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uben 2016 až listopad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Proč to máme uděl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íle projek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vestiční záměry škol a vzdělávacích institucí  do IROPu povinně ve Strategickém rám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VVV – další kola výzev na šabl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VVV – projekty spolu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ohlubování spolupráce a další pokračování spolupráce v úze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o jsme udělal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ídící vý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etkání s řediteli šk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covní skup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dividuální rozhov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dílení zkušeností - akce pro učitele prvního stupně Z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zultace projektových záměrů do IRO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nalytická část dokumen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rategický rámec: priority, cíle, seznam konkrétních investičních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o budeme ještě děl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dílení zkušeností – učitelé druhého stupně ZŠ dle vyučovaných předmětů, inkluze, učitelé M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covní skup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ídící vý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lánování měkkých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ktualizace Strategického rámce – inves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ístní akční plán rozvoje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Dnešní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4:30 – 16:00 Bloky prezent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00 – 16:15 Přestá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15 – 16:30 V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35 – 17:00 Skupinová diskuz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urik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Financování šk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Šablony a DV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voj potenciálu každého žá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7:15 Exkur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Calibri"/>
              </a:rPr>
              <a:t>Vize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Calibri"/>
              </a:rPr>
              <a:t>Chceme, aby Karlovarsko bylo místem příležitostí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1" descr=""/>
          <p:cNvPicPr/>
          <p:nvPr/>
        </p:nvPicPr>
        <p:blipFill>
          <a:blip r:embed="rId1"/>
          <a:stretch/>
        </p:blipFill>
        <p:spPr>
          <a:xfrm>
            <a:off x="1763640" y="2395440"/>
            <a:ext cx="61516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Dnešní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4:30 – 16:00 Bloky prezent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00 – 16:15 Přestá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15 – 16:30 V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:35 – 17:00 Skupinová diskuz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urik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Financování šk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Šablony a DV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voj potenciálu každého žá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7:15 Exkur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1T11:34:39Z</dcterms:created>
  <dc:creator>Uzivatwel R25</dc:creator>
  <dc:description/>
  <dc:language>en-US</dc:language>
  <cp:lastModifiedBy>Správa</cp:lastModifiedBy>
  <dcterms:modified xsi:type="dcterms:W3CDTF">2016-09-21T10:49:03Z</dcterms:modified>
  <cp:revision>32</cp:revision>
  <dc:subject/>
  <dc:title>Setkání ředitelů škol v rámci projektu MAP ORP Sokolov</dc:title>
</cp:coreProperties>
</file>