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FE0-0500-48A2-862F-B24DC7F6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7EE-D11F-412E-8230-49116495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CE2-0F50-46E0-9153-E1704D98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A1D-E5C3-496C-A689-A8AFD75C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53A-592D-43FC-964E-95CEC6CE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292-48DE-4E05-B724-4CE1C74B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D76-E86B-4300-A34E-951B570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C6B-3A31-42D9-89D0-2595870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6DC-4E22-4963-BFF0-9BF5744D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6D3-4B28-4079-BFF7-2EF34E5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C96-37F6-4C71-9369-513599B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4C1-ED57-494E-9AF9-FE8DEDB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A8C6-8A88-4AB6-9EB6-56998DFCB1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7556-661C-4AE9-B92E-293961B177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Setkání s aktéry projektu </a:t>
            </a:r>
            <a:br>
              <a:rPr sz="4400"/>
            </a:b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„MAP ORP Karlovy Vary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35772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roznatova akademie Klášter premonstrátů v Tep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5. 9.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00000" y="33480"/>
            <a:ext cx="7236000" cy="1606320"/>
          </a:xfrm>
          <a:prstGeom prst="rect">
            <a:avLst/>
          </a:prstGeom>
          <a:ln w="0">
            <a:noFill/>
          </a:ln>
        </p:spPr>
      </p:pic>
      <p:sp>
        <p:nvSpPr>
          <p:cNvPr id="44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8" descr=""/>
          <p:cNvPicPr/>
          <p:nvPr/>
        </p:nvPicPr>
        <p:blipFill>
          <a:blip r:embed="rId2"/>
          <a:stretch/>
        </p:blipFill>
        <p:spPr>
          <a:xfrm>
            <a:off x="5435640" y="3357720"/>
            <a:ext cx="2965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o, kde a kdy máme v projektu uděl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o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lánovat v oblasti výchovy a vzdělávání</a:t>
            </a:r>
            <a:r>
              <a:rPr b="1" lang="cs-CZ" sz="3600" spc="-1" strike="noStrike">
                <a:solidFill>
                  <a:srgbClr val="31859c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okumenty: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ístní akční plán rozvoje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rategický rám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voj spolu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Kde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území správního obvodu ORP K. Vary a města Tepl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Kd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uben 2016 až listopad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Proč to máme uděl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íle projek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vestiční záměry škol a vzdělávacích institucí  do IROPu povinně ve Strategickém rám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VVV – další kola výzev na šabl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VVV – projekty spolu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ohlubování spolupráce a další pokračování spolupráce v úze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o jsme udělal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ídící vý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etkání s řediteli šk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covní skup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dividuální rozhov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dílení zkušeností - akce pro učitele prvního stupně Z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zultace projektových záměrů do IRO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nalytická část dokumen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rategický rámec: priority, cíle, seznam konkrétních investičních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o budeme ještě děl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dílení zkušeností – učitelé druhého stupně ZŠ dle vyučovaných předmětů, inkluze, učitelé M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covní skup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ídící vý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lánování měkkých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ktualizace Strategického rámce – inves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ístní akční plán rozvoje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Dnešní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4:30 – 16:00 Bloky prezent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00 – 16:15 Přestá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15 – 16:30 V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35 – 17:00 Skupinová diskuz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urik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Financování šk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Šablony a DV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voj potenciálu každého žá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7:15 Exkur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Calibri"/>
              </a:rPr>
              <a:t>Vize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Calibri"/>
              </a:rPr>
              <a:t>Chceme, aby Karlovarsko bylo místem příležitostí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1" descr=""/>
          <p:cNvPicPr/>
          <p:nvPr/>
        </p:nvPicPr>
        <p:blipFill>
          <a:blip r:embed="rId1"/>
          <a:stretch/>
        </p:blipFill>
        <p:spPr>
          <a:xfrm>
            <a:off x="1763640" y="2395440"/>
            <a:ext cx="61516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Dnešní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4:30 – 16:00 Bloky prezent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00 – 16:15 Přestá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15 – 16:30 V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35 – 17:00 Skupinová diskuz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urik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Financování šk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Šablony a DV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voj potenciálu každého žá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7:15 Exkur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1T11:34:39Z</dcterms:created>
  <dc:creator>Uzivatwel R25</dc:creator>
  <dc:description/>
  <dc:language>en-US</dc:language>
  <cp:lastModifiedBy>Správa</cp:lastModifiedBy>
  <dcterms:modified xsi:type="dcterms:W3CDTF">2016-09-21T10:49:03Z</dcterms:modified>
  <cp:revision>32</cp:revision>
  <dc:subject/>
  <dc:title>Setkání ředitelů škol v rámci projektu MAP ORP Sokolov</dc:title>
</cp:coreProperties>
</file>