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7A90-C1F2-4713-9A25-D544E4AA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8229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16080"/>
            <a:ext cx="8229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2A04-915B-4756-AB7A-14C6B6EC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9976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16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16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AB4C-1A9B-48FE-844E-BC10386C4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9976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9976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16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16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16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05ED-FF6D-4444-8740-563C6C179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DDE7-2F5C-4B23-9353-82EF03BB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499760"/>
            <a:ext cx="8229240" cy="46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BC47-5E4F-45B7-B3C5-C375924C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8229240" cy="46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4994-A610-4728-9F05-9EC79691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4015800" cy="46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99760"/>
            <a:ext cx="4015800" cy="46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390A-F749-4F50-9C81-1F4D6488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BBF8-7064-46F9-BE98-BA1564DD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F570-646E-4C6F-AD86-685E9784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99760"/>
            <a:ext cx="4015800" cy="46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16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24CD-EE3A-4373-A7C9-172B1654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99760"/>
            <a:ext cx="8229240" cy="46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5101-B46B-4A96-AF90-440575AA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4015800" cy="46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9976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16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2362-804E-46DA-BED5-1C08ECD7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9976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16080"/>
            <a:ext cx="8229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E593-C390-4362-96F8-6AE4D045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8229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16080"/>
            <a:ext cx="8229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F932-D41C-40CD-8E60-B1862C5B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49976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16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16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FD66-DE7C-4C88-8F3A-7F41DAA7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49976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49976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16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16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16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20FD-6AB0-48F0-9E67-A3D4B576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8229240" cy="46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8D67-9B18-40F9-9738-182A9D7B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4015800" cy="46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99760"/>
            <a:ext cx="4015800" cy="46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0C3B-3E26-48FD-989F-2AEF84CC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5672-1ABA-43D5-99E2-D5DE168E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99F1-72C6-4986-BF3F-48C5E093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99760"/>
            <a:ext cx="4015800" cy="46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16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3789-AD02-4C93-A35D-516BBC4B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4015800" cy="46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9976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16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9929-926A-4C89-A4D8-E827B9E0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9976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16080"/>
            <a:ext cx="8229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1597-0195-4F1B-B939-CBDCA485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-6840" y="0"/>
            <a:ext cx="9143640" cy="6286320"/>
          </a:xfrm>
          <a:prstGeom prst="rect">
            <a:avLst/>
          </a:prstGeom>
          <a:gradFill rotWithShape="0">
            <a:gsLst>
              <a:gs pos="1000">
                <a:srgbClr val="7cb7f8">
                  <a:alpha val="0"/>
                </a:srgbClr>
              </a:gs>
              <a:gs pos="100000">
                <a:srgbClr val="ffffff">
                  <a:alpha val="92156"/>
                </a:srgbClr>
              </a:gs>
            </a:gsLst>
            <a:lin ang="16200000"/>
          </a:gradFill>
          <a:ln w="28575"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grpSp>
        <p:nvGrpSpPr>
          <p:cNvPr id="1" name="Group 16"/>
          <p:cNvGrpSpPr/>
          <p:nvPr/>
        </p:nvGrpSpPr>
        <p:grpSpPr>
          <a:xfrm>
            <a:off x="0" y="3268440"/>
            <a:ext cx="9143640" cy="145800"/>
            <a:chOff x="0" y="3268440"/>
            <a:chExt cx="9143640" cy="145800"/>
          </a:xfrm>
        </p:grpSpPr>
        <p:sp>
          <p:nvSpPr>
            <p:cNvPr id="2" name="Rectangle 12"/>
            <p:cNvSpPr/>
            <p:nvPr/>
          </p:nvSpPr>
          <p:spPr>
            <a:xfrm>
              <a:off x="0" y="3268440"/>
              <a:ext cx="9143640" cy="145800"/>
            </a:xfrm>
            <a:prstGeom prst="rect">
              <a:avLst/>
            </a:prstGeom>
            <a:solidFill>
              <a:schemeClr val="tx2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  <p:sp>
          <p:nvSpPr>
            <p:cNvPr id="3" name="Rectangle 13"/>
            <p:cNvSpPr/>
            <p:nvPr/>
          </p:nvSpPr>
          <p:spPr>
            <a:xfrm>
              <a:off x="5181480" y="3268440"/>
              <a:ext cx="1096920" cy="14580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  <p:sp>
          <p:nvSpPr>
            <p:cNvPr id="4" name="Rectangle 14"/>
            <p:cNvSpPr/>
            <p:nvPr/>
          </p:nvSpPr>
          <p:spPr>
            <a:xfrm>
              <a:off x="6278760" y="3268440"/>
              <a:ext cx="1096920" cy="145800"/>
            </a:xfrm>
            <a:prstGeom prst="rect">
              <a:avLst/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  <p:sp>
          <p:nvSpPr>
            <p:cNvPr id="5" name="Rectangle 15"/>
            <p:cNvSpPr/>
            <p:nvPr/>
          </p:nvSpPr>
          <p:spPr>
            <a:xfrm>
              <a:off x="7376040" y="3268440"/>
              <a:ext cx="1096920" cy="145800"/>
            </a:xfrm>
            <a:prstGeom prst="rect">
              <a:avLst/>
            </a:prstGeom>
            <a:solidFill>
              <a:schemeClr val="accent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924320" cy="146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ffffff"/>
                </a:solidFill>
                <a:latin typeface="Gill Sans MT"/>
              </a:rPr>
              <a:t>Klepnutím lze upravit styl předlohy nadpisů.</a:t>
            </a:r>
            <a:endParaRPr b="0" lang="cs-CZ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65746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cs-CZ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460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29B54F8-67DE-4025-961A-15234D345904}" type="slidenum">
              <a:rPr b="0" lang="cs-CZ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cs-CZ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cs-CZ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cs-CZ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cs-CZ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cs-CZ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cs-CZ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cs-CZ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-6840" y="0"/>
            <a:ext cx="9143640" cy="6286320"/>
          </a:xfrm>
          <a:prstGeom prst="rect">
            <a:avLst/>
          </a:prstGeom>
          <a:gradFill rotWithShape="0">
            <a:gsLst>
              <a:gs pos="1000">
                <a:srgbClr val="7cb7f8">
                  <a:alpha val="0"/>
                </a:srgbClr>
              </a:gs>
              <a:gs pos="100000">
                <a:srgbClr val="ffffff">
                  <a:alpha val="92156"/>
                </a:srgbClr>
              </a:gs>
            </a:gsLst>
            <a:lin ang="16200000"/>
          </a:gradFill>
          <a:ln w="28575"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499760"/>
            <a:ext cx="8229240" cy="462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Klep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108bb4"/>
              </a:buClr>
              <a:buSzPct val="60000"/>
              <a:buFont typeface="Wingdings 2" charset="2"/>
              <a:buChar char=""/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da7328"/>
              </a:buClr>
              <a:buSzPct val="57000"/>
              <a:buFont typeface="Wingdings 2" charset="2"/>
              <a:buChar char=""/>
            </a:pPr>
            <a:r>
              <a:rPr b="0" lang="cs-CZ" sz="2400" spc="-1" strike="noStrike">
                <a:solidFill>
                  <a:srgbClr val="000000"/>
                </a:solidFill>
                <a:latin typeface="Gill Sans MT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ae589f"/>
              </a:buClr>
              <a:buSzPct val="55000"/>
              <a:buFont typeface="Wingdings 2" charset="2"/>
              <a:buChar char=""/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77b559"/>
              </a:buClr>
              <a:buSzPct val="50000"/>
              <a:buFont typeface="Wingdings 2" charset="2"/>
              <a:buChar char=""/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5746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cs-CZ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460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409EE7C-369E-4F5A-AC62-473861BBFF9E}" type="slidenum">
              <a:rPr b="0" lang="cs-CZ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3"/>
          <p:cNvGrpSpPr/>
          <p:nvPr/>
        </p:nvGrpSpPr>
        <p:grpSpPr>
          <a:xfrm>
            <a:off x="0" y="1371600"/>
            <a:ext cx="9143640" cy="72720"/>
            <a:chOff x="0" y="1371600"/>
            <a:chExt cx="9143640" cy="72720"/>
          </a:xfrm>
        </p:grpSpPr>
        <p:sp>
          <p:nvSpPr>
            <p:cNvPr id="53" name="Rectangle 14"/>
            <p:cNvSpPr/>
            <p:nvPr/>
          </p:nvSpPr>
          <p:spPr>
            <a:xfrm>
              <a:off x="0" y="1371600"/>
              <a:ext cx="9143640" cy="72720"/>
            </a:xfrm>
            <a:prstGeom prst="rect">
              <a:avLst/>
            </a:prstGeom>
            <a:solidFill>
              <a:schemeClr val="tx2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5181480" y="1371600"/>
              <a:ext cx="1096920" cy="7272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6278760" y="1371600"/>
              <a:ext cx="1096920" cy="72720"/>
            </a:xfrm>
            <a:prstGeom prst="rect">
              <a:avLst/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7376040" y="1371600"/>
              <a:ext cx="1096920" cy="72720"/>
            </a:xfrm>
            <a:prstGeom prst="rect">
              <a:avLst/>
            </a:prstGeom>
            <a:solidFill>
              <a:schemeClr val="accent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</p:grpSp>
      <p:sp>
        <p:nvSpPr>
          <p:cNvPr id="57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ffffff"/>
                </a:solidFill>
                <a:latin typeface="Gill Sans MT"/>
              </a:rPr>
              <a:t>Klepnutím lze upravit styl předlohy nadpisů.</a:t>
            </a:r>
            <a:endParaRPr b="0" lang="cs-CZ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640" y="1484640"/>
            <a:ext cx="792432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ffffff"/>
                </a:solidFill>
                <a:latin typeface="Gill Sans MT"/>
              </a:rPr>
              <a:t>MAS Sokolovsko</a:t>
            </a:r>
            <a:endParaRPr b="0" lang="cs-CZ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39640" y="3789000"/>
            <a:ext cx="820872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Prezentující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Ing. Ivana Jágri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Ing. Miroslav Makovi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ill Sans MT"/>
              </a:rPr>
              <a:t>31.01.2012 – Rota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logo_publicita_barevné"/>
          <p:cNvPicPr/>
          <p:nvPr/>
        </p:nvPicPr>
        <p:blipFill>
          <a:blip r:embed="rId1"/>
          <a:stretch/>
        </p:blipFill>
        <p:spPr>
          <a:xfrm>
            <a:off x="1403640" y="188640"/>
            <a:ext cx="6185160" cy="894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499760"/>
            <a:ext cx="86864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Rekonstrukce klubovny pro mládež organizovanou v kynologickém klubu a výstavba dráhy pro trénink agility v rámci činnosti mládeže. Místo realizace je v Dolních Pochlovicích (do 500 obyvatel).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+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Zajímavé, inovativní, kynologie je oblíbená.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-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Stavební povolení se vyřizuje, mělo by se stihnout.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395640" y="152280"/>
            <a:ext cx="84967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ffffff"/>
                </a:solidFill>
                <a:latin typeface="Gill Sans MT"/>
              </a:rPr>
              <a:t>V.  Kynšperk nad Ohří</a:t>
            </a:r>
            <a:endParaRPr b="0" lang="cs-CZ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499760"/>
            <a:ext cx="86864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Nutné finanční zapojí se do předfinancování projektu a do spoluúčasti projektu.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Bude nutné zapojit místní dobrovolníky – do plánování, realizace, udržitelnosti – aktivita dětí sdružených do kroužků, organizací,…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Počítat s udržitelností 5 let od zahájení projektu, tj.  pouze cca 3 roky od ukončení projektu.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Žadatelem bude MAS, která bude mít DPH způsobilé (pokud žádá obec, je DPH vždy nezpůsobilé).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395640" y="152280"/>
            <a:ext cx="84967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ffffff"/>
                </a:solidFill>
                <a:latin typeface="Gill Sans MT"/>
              </a:rPr>
              <a:t>VI.  Rizika vs výhody</a:t>
            </a:r>
            <a:endParaRPr b="0" lang="cs-CZ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499760"/>
            <a:ext cx="8229240" cy="462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Kontakty: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da7328"/>
              </a:buClr>
              <a:buSzPct val="57000"/>
              <a:buFont typeface="Wingdings 2" charset="2"/>
              <a:buChar char=""/>
            </a:pPr>
            <a:r>
              <a:rPr b="0" lang="cs-CZ" sz="2400" spc="-1" strike="noStrike">
                <a:solidFill>
                  <a:srgbClr val="000000"/>
                </a:solidFill>
                <a:latin typeface="Gill Sans MT"/>
              </a:rPr>
              <a:t>Mobil: 739 011 869</a:t>
            </a:r>
            <a:endParaRPr b="0" lang="cs-CZ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da7328"/>
              </a:buClr>
              <a:buSzPct val="57000"/>
              <a:buFont typeface="Wingdings 2" charset="2"/>
              <a:buChar char=""/>
            </a:pPr>
            <a:r>
              <a:rPr b="0" lang="cs-CZ" sz="2400" spc="-1" strike="noStrike">
                <a:solidFill>
                  <a:srgbClr val="000000"/>
                </a:solidFill>
                <a:latin typeface="Gill Sans MT"/>
              </a:rPr>
              <a:t>Telefon: 352 633 520</a:t>
            </a:r>
            <a:endParaRPr b="0" lang="cs-CZ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da7328"/>
              </a:buClr>
              <a:buSzPct val="57000"/>
              <a:buFont typeface="Wingdings 2" charset="2"/>
              <a:buChar char=""/>
            </a:pPr>
            <a:r>
              <a:rPr b="0" lang="cs-CZ" sz="2400" spc="-1" strike="noStrike">
                <a:solidFill>
                  <a:srgbClr val="000000"/>
                </a:solidFill>
                <a:latin typeface="Gill Sans MT"/>
              </a:rPr>
              <a:t>E-mail: mas.sokolovsko@volny.cz</a:t>
            </a:r>
            <a:endParaRPr b="0" lang="cs-CZ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da7328"/>
              </a:buClr>
              <a:buSzPct val="57000"/>
              <a:buFont typeface="Wingdings 2" charset="2"/>
              <a:buChar char=""/>
            </a:pPr>
            <a:r>
              <a:rPr b="0" lang="cs-CZ" sz="2400" spc="-1" strike="noStrike">
                <a:solidFill>
                  <a:srgbClr val="000000"/>
                </a:solidFill>
                <a:latin typeface="Gill Sans MT"/>
              </a:rPr>
              <a:t>www.mas-sokolovsko.eu</a:t>
            </a:r>
            <a:endParaRPr b="0" lang="cs-CZ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da7328"/>
              </a:buClr>
              <a:buSzPct val="57000"/>
              <a:buFont typeface="Wingdings 2" charset="2"/>
              <a:buChar char=""/>
            </a:pPr>
            <a:r>
              <a:rPr b="0" lang="cs-CZ" sz="2400" spc="-1" strike="noStrike">
                <a:solidFill>
                  <a:srgbClr val="000000"/>
                </a:solidFill>
                <a:latin typeface="Gill Sans MT"/>
              </a:rPr>
              <a:t>Sídlo: Nám. Míru 230, 357 61 Březová</a:t>
            </a:r>
            <a:endParaRPr b="0" lang="cs-CZ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ffffff"/>
                </a:solidFill>
                <a:latin typeface="Gill Sans MT"/>
              </a:rPr>
              <a:t>Děkujeme za pozornost</a:t>
            </a:r>
            <a:endParaRPr b="0" lang="cs-CZ" sz="4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9" name="Picture 2" descr="logo_publicita_barevné"/>
          <p:cNvPicPr/>
          <p:nvPr/>
        </p:nvPicPr>
        <p:blipFill>
          <a:blip r:embed="rId1"/>
          <a:stretch/>
        </p:blipFill>
        <p:spPr>
          <a:xfrm>
            <a:off x="1403640" y="5805360"/>
            <a:ext cx="6185160" cy="894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499760"/>
            <a:ext cx="8290800" cy="502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1" lang="cs-CZ" sz="3200" spc="-1" strike="noStrike">
                <a:solidFill>
                  <a:srgbClr val="000000"/>
                </a:solidFill>
                <a:latin typeface="Gill Sans MT"/>
              </a:rPr>
              <a:t>Pracovní název projektu</a:t>
            </a: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: Dejme mladým lidem příležitost formovat budoucí venkov (Give to young people the opportunity to create future countryside).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Žádost bude podána do PRV, 15. kolo, opatření IV.2.1 Realizace projektů mezinárodní spolupráce.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1" lang="cs-CZ" sz="3200" spc="-1" strike="noStrike">
                <a:solidFill>
                  <a:srgbClr val="000000"/>
                </a:solidFill>
                <a:latin typeface="Gill Sans MT"/>
              </a:rPr>
              <a:t>Termín odevzdání </a:t>
            </a: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– do 27.3.2012.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395640" y="152280"/>
            <a:ext cx="84967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ffffff"/>
                </a:solidFill>
                <a:latin typeface="Gill Sans MT"/>
              </a:rPr>
              <a:t>1.  Identifikace záměru</a:t>
            </a:r>
            <a:endParaRPr b="0" lang="cs-CZ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499760"/>
            <a:ext cx="8506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1" lang="cs-CZ" sz="3200" spc="-1" strike="noStrike">
                <a:solidFill>
                  <a:srgbClr val="000000"/>
                </a:solidFill>
                <a:latin typeface="Gill Sans MT"/>
              </a:rPr>
              <a:t>Partneři: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100000"/>
              </a:lnSpc>
              <a:spcBef>
                <a:spcPts val="561"/>
              </a:spcBef>
              <a:buClr>
                <a:srgbClr val="108bb4"/>
              </a:buClr>
              <a:buSzPct val="60000"/>
              <a:buFont typeface="Wingdings 2" charset="2"/>
              <a:buChar char=""/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ČR: MAS Cínovecko o.p.s. (koordinační MAS)</a:t>
            </a:r>
            <a:endParaRPr b="0" lang="cs-CZ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100000"/>
              </a:lnSpc>
              <a:spcBef>
                <a:spcPts val="561"/>
              </a:spcBef>
              <a:buClr>
                <a:srgbClr val="108bb4"/>
              </a:buClr>
              <a:buSzPct val="60000"/>
              <a:buFont typeface="Wingdings 2" charset="2"/>
              <a:buChar char=""/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ČR: MAS Sokolovsko o.p.s. (partner)</a:t>
            </a:r>
            <a:endParaRPr b="0" lang="cs-CZ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100000"/>
              </a:lnSpc>
              <a:spcBef>
                <a:spcPts val="561"/>
              </a:spcBef>
              <a:buClr>
                <a:srgbClr val="108bb4"/>
              </a:buClr>
              <a:buSzPct val="60000"/>
              <a:buFont typeface="Wingdings 2" charset="2"/>
              <a:buChar char=""/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ČR: MAS Serviso, o.p.s. (partner)</a:t>
            </a:r>
            <a:endParaRPr b="0" lang="cs-CZ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100000"/>
              </a:lnSpc>
              <a:spcBef>
                <a:spcPts val="561"/>
              </a:spcBef>
              <a:buClr>
                <a:srgbClr val="108bb4"/>
              </a:buClr>
              <a:buSzPct val="60000"/>
              <a:buFont typeface="Wingdings 2" charset="2"/>
              <a:buChar char=""/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Finsko: LAG Aktiivinen Pohjois-Satakunta ry</a:t>
            </a:r>
            <a:endParaRPr b="0" lang="cs-CZ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100000"/>
              </a:lnSpc>
              <a:spcBef>
                <a:spcPts val="561"/>
              </a:spcBef>
              <a:buClr>
                <a:srgbClr val="108bb4"/>
              </a:buClr>
              <a:buSzPct val="60000"/>
              <a:buFont typeface="Wingdings 2" charset="2"/>
              <a:buChar char=""/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Finsko: LAG Karkuseutu (v jednání)</a:t>
            </a:r>
            <a:endParaRPr b="0" lang="cs-CZ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100000"/>
              </a:lnSpc>
              <a:spcBef>
                <a:spcPts val="561"/>
              </a:spcBef>
              <a:buClr>
                <a:srgbClr val="108bb4"/>
              </a:buClr>
              <a:buSzPct val="60000"/>
              <a:buFont typeface="Wingdings 2" charset="2"/>
              <a:buChar char=""/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SRN: Verein zur Entwicklung der Vorerzgebirgsregion, Augustusburger Land a.V., Sasko</a:t>
            </a:r>
            <a:endParaRPr b="0" lang="cs-CZ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1" lang="cs-CZ" sz="3200" spc="-1" strike="noStrike">
                <a:solidFill>
                  <a:srgbClr val="000000"/>
                </a:solidFill>
                <a:latin typeface="Gill Sans MT"/>
              </a:rPr>
              <a:t>Celkový rozpočet českých partnerů projektu</a:t>
            </a: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: max. 5 mil. Kč, max. 1,5 mil. Kč/MAS.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395640" y="152280"/>
            <a:ext cx="84967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ffffff"/>
                </a:solidFill>
                <a:latin typeface="Gill Sans MT"/>
              </a:rPr>
              <a:t>1.  Identifikace záměru</a:t>
            </a:r>
            <a:endParaRPr b="0" lang="cs-CZ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499760"/>
            <a:ext cx="86864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3000" spc="-1" strike="noStrike">
                <a:solidFill>
                  <a:srgbClr val="000000"/>
                </a:solidFill>
                <a:latin typeface="Gill Sans MT"/>
              </a:rPr>
              <a:t>Povzbudit a podpořit spolupráci mezi českými a zahraničními MAS a motivovat území zúčastněných MAS na řešení společných problémů v následujících oblastech</a:t>
            </a: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cs-CZ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100000"/>
              </a:lnSpc>
              <a:spcBef>
                <a:spcPts val="519"/>
              </a:spcBef>
              <a:buClr>
                <a:srgbClr val="108bb4"/>
              </a:buClr>
              <a:buSzPct val="60000"/>
              <a:buFont typeface="Wingdings 2" charset="2"/>
              <a:buChar char=""/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Zvýšení soudržnosti obyvatel, přispění k zachování tradic, upevnění lokální identity a mezilidských vztahů, posilování uplatňování principů Leader prostřednictvím měkkých akcí.</a:t>
            </a:r>
            <a:endParaRPr b="0" lang="cs-CZ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100000"/>
              </a:lnSpc>
              <a:spcBef>
                <a:spcPts val="519"/>
              </a:spcBef>
              <a:buClr>
                <a:srgbClr val="108bb4"/>
              </a:buClr>
              <a:buSzPct val="60000"/>
              <a:buFont typeface="Wingdings 2" charset="2"/>
              <a:buChar char=""/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Zajištění zázemí pro aktivity dětí a mládeže prostřednictvím místních společenských, kulturních, zájmových a sportovních organizací, které upevňují lokální identitu a mezilidské vztahy. </a:t>
            </a:r>
            <a:endParaRPr b="0" lang="cs-CZ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395640" y="152280"/>
            <a:ext cx="84967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ffffff"/>
                </a:solidFill>
                <a:latin typeface="Gill Sans MT"/>
              </a:rPr>
              <a:t>1I.  Globální cíle projektu</a:t>
            </a:r>
            <a:endParaRPr b="0" lang="cs-CZ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1640" y="1499760"/>
            <a:ext cx="8892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2700" spc="-1" strike="noStrike">
                <a:solidFill>
                  <a:srgbClr val="000000"/>
                </a:solidFill>
                <a:latin typeface="Gill Sans MT"/>
              </a:rPr>
              <a:t>Podpora zapojení mládeže z venkova do komunitní práce MAS, jejich příprava na život ve změněných ekonomických, sociálních i společenských podmínkách globalizovaného světa a pro práci v řídících strukturách obcí a MAS.  </a:t>
            </a:r>
            <a:endParaRPr b="0" lang="cs-CZ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5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2700" spc="-1" strike="noStrike">
                <a:solidFill>
                  <a:srgbClr val="000000"/>
                </a:solidFill>
                <a:latin typeface="Gill Sans MT"/>
              </a:rPr>
              <a:t>Současně podpořit i využití zkušeností starší generace jak v odborných oblastech, tak i při řízení a rozvoji obcí a komunitní práce a vzájemné spolupráce generačně různých součástí společnosti. </a:t>
            </a:r>
            <a:endParaRPr b="0" lang="cs-CZ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5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2700" spc="-1" strike="noStrike">
                <a:solidFill>
                  <a:srgbClr val="000000"/>
                </a:solidFill>
                <a:latin typeface="Gill Sans MT"/>
              </a:rPr>
              <a:t>Vybudování zázemí pro rozvoj aktivit mladých lidí - rekonstrukcí nebo vybudováním nových míst pro setkávání a učení,  zvyšování povědomí o životním prostředí a prohlubování kontaktů pomocí společných sportovních akcí. </a:t>
            </a:r>
            <a:endParaRPr b="0" lang="cs-CZ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95640" y="152280"/>
            <a:ext cx="84967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ffffff"/>
                </a:solidFill>
                <a:latin typeface="Gill Sans MT"/>
              </a:rPr>
              <a:t>1I.  Specifické cíle projektu</a:t>
            </a:r>
            <a:endParaRPr b="0" lang="cs-CZ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499760"/>
            <a:ext cx="86864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3000" spc="-1" strike="noStrike">
                <a:solidFill>
                  <a:srgbClr val="000000"/>
                </a:solidFill>
                <a:latin typeface="Gill Sans MT"/>
              </a:rPr>
              <a:t>Vytvoření a zajištění činnosti „stínové  Koordinační pracovní skupiny“ projektu  složené z mladých lidí a „stínových Pracovních skupin“  v rámci jednotlivých zainteresovaných  MAS , včetně podpory zajištění  jejich úzké spolupráce  s příslušnými obcemi a organizacemi – členy MAS.</a:t>
            </a:r>
            <a:endParaRPr b="0" lang="cs-CZ" sz="3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3000" spc="-1" strike="noStrike">
                <a:solidFill>
                  <a:srgbClr val="000000"/>
                </a:solidFill>
                <a:latin typeface="Gill Sans MT"/>
              </a:rPr>
              <a:t>Setkání  prac.  skupin s partnery,  vzájemná výměna zkušeností (společné akce, kulaté stoly a odborné semináře v rámci jednotlivých partnerských MAS).</a:t>
            </a:r>
            <a:endParaRPr b="0" lang="cs-CZ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395640" y="152280"/>
            <a:ext cx="84967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ffffff"/>
                </a:solidFill>
                <a:latin typeface="Gill Sans MT"/>
              </a:rPr>
              <a:t>1II.  Obsah projektu – měkké aktivity</a:t>
            </a:r>
            <a:endParaRPr b="0" lang="cs-CZ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499760"/>
            <a:ext cx="86864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03840" indent="-303840">
              <a:lnSpc>
                <a:spcPct val="100000"/>
              </a:lnSpc>
              <a:spcBef>
                <a:spcPts val="6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Vytvoření  a rozvinutí  činnosti „Rady starších“ z odborníků, současných a bývalých starostů a členů zastupitelstev i dalších aktivních občanů – seniorů.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marL="303840" indent="-303840">
              <a:lnSpc>
                <a:spcPct val="100000"/>
              </a:lnSpc>
              <a:spcBef>
                <a:spcPts val="6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Mezinárodní setkávání  mladých lidí (letní tábory  typu Natureblok) zaměřených na témata: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58440" indent="-253080">
              <a:lnSpc>
                <a:spcPct val="100000"/>
              </a:lnSpc>
              <a:spcBef>
                <a:spcPts val="519"/>
              </a:spcBef>
              <a:buClr>
                <a:srgbClr val="108bb4"/>
              </a:buClr>
              <a:buSzPct val="60000"/>
              <a:buFont typeface="Wingdings 2" charset="2"/>
              <a:buChar char=""/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životní prostředí: jeho tvorba a ochrana</a:t>
            </a:r>
            <a:endParaRPr b="0" lang="cs-CZ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58440" indent="-253080">
              <a:lnSpc>
                <a:spcPct val="100000"/>
              </a:lnSpc>
              <a:spcBef>
                <a:spcPts val="519"/>
              </a:spcBef>
              <a:buClr>
                <a:srgbClr val="108bb4"/>
              </a:buClr>
              <a:buSzPct val="60000"/>
              <a:buFont typeface="Wingdings 2" charset="2"/>
              <a:buChar char=""/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zvyšování jazykových kompetencí</a:t>
            </a:r>
            <a:endParaRPr b="0" lang="cs-CZ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58440" indent="-253080">
              <a:lnSpc>
                <a:spcPct val="100000"/>
              </a:lnSpc>
              <a:spcBef>
                <a:spcPts val="519"/>
              </a:spcBef>
              <a:buClr>
                <a:srgbClr val="108bb4"/>
              </a:buClr>
              <a:buSzPct val="60000"/>
              <a:buFont typeface="Wingdings 2" charset="2"/>
              <a:buChar char=""/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rozvoj kulturních, společenských a sportovních aktivit  jako  nástroje pro neformální  a přirozenou  podporu  prohlubování partnerství a vzájemných vztahů mladých lidí z různých zemí</a:t>
            </a:r>
            <a:endParaRPr b="0" lang="cs-CZ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58440" indent="-253080">
              <a:lnSpc>
                <a:spcPct val="100000"/>
              </a:lnSpc>
              <a:spcBef>
                <a:spcPts val="519"/>
              </a:spcBef>
              <a:buClr>
                <a:srgbClr val="108bb4"/>
              </a:buClr>
              <a:buSzPct val="60000"/>
              <a:buFont typeface="Wingdings 2" charset="2"/>
              <a:buChar char=""/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rozvoj kompetencí  v oblasti moderních informačních a komunikačních technologií</a:t>
            </a:r>
            <a:endParaRPr b="0" lang="cs-CZ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395640" y="152280"/>
            <a:ext cx="84967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ffffff"/>
                </a:solidFill>
                <a:latin typeface="Gill Sans MT"/>
              </a:rPr>
              <a:t>1II.  Obsah projektu – měkké aktivity</a:t>
            </a:r>
            <a:endParaRPr b="0" lang="cs-CZ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499760"/>
            <a:ext cx="86864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92680" indent="-292680">
              <a:lnSpc>
                <a:spcPct val="100000"/>
              </a:lnSpc>
              <a:spcBef>
                <a:spcPts val="6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Vybudování a vybavení „kluboven“ či „středisek“ pro setkávání a činnost mladých lidí zapojených do projektu.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marL="292680" indent="-292680">
              <a:lnSpc>
                <a:spcPct val="100000"/>
              </a:lnSpc>
              <a:spcBef>
                <a:spcPts val="6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Rekonstrukce nebo nová výstavba hřišť, multifunkčních ploch a sportovních zařízení.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marL="292680" indent="-292680">
              <a:lnSpc>
                <a:spcPct val="100000"/>
              </a:lnSpc>
              <a:spcBef>
                <a:spcPts val="6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Budování infrastruktury pro rozvoj aktivit spojených s ochranou, tvorbou životního prostředí a s tím spojenou publicitou a propagací.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marL="292680" indent="-292680">
              <a:lnSpc>
                <a:spcPct val="100000"/>
              </a:lnSpc>
              <a:spcBef>
                <a:spcPts val="6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Případně  další doplněné na základě konkrétních potřeb jednotlivých MAS.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marL="292680" indent="-292680">
              <a:lnSpc>
                <a:spcPct val="100000"/>
              </a:lnSpc>
              <a:spcBef>
                <a:spcPts val="6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Snaha podpořit „</a:t>
            </a:r>
            <a:r>
              <a:rPr b="1" lang="cs-CZ" sz="3200" spc="-1" strike="noStrike">
                <a:solidFill>
                  <a:srgbClr val="000000"/>
                </a:solidFill>
                <a:latin typeface="Gill Sans MT"/>
              </a:rPr>
              <a:t>malé sporty</a:t>
            </a: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“ – tradice, šipky, praky, kulečník (jednodušší udržitelnost, mládež baví, je mezinárodní).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395640" y="152280"/>
            <a:ext cx="84967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ffffff"/>
                </a:solidFill>
                <a:latin typeface="Gill Sans MT"/>
              </a:rPr>
              <a:t>V.  Konkrétní tvrdé aktivity - návrhy</a:t>
            </a:r>
            <a:endParaRPr b="0" lang="cs-CZ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499760"/>
            <a:ext cx="86864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Vybudování dětského hřiště na fotbalovém hřišti (rozloha 280 m2, rozpočet 570.000 Kč, stavební povolení vyřízené).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Není úplně v souladu se záměrem projektu.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-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Zvažují podání do jiného dotačního titulu.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395640" y="152280"/>
            <a:ext cx="84967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ffffff"/>
                </a:solidFill>
                <a:latin typeface="Gill Sans MT"/>
              </a:rPr>
              <a:t>V.  Nové Sedlo – v jednání</a:t>
            </a:r>
            <a:endParaRPr b="0" lang="cs-CZ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untain">
  <a:themeElements>
    <a:clrScheme name="Mountain">
      <a:dk1>
        <a:srgbClr val="000000"/>
      </a:dk1>
      <a:lt1>
        <a:srgbClr val="ffffff"/>
      </a:lt1>
      <a:dk2>
        <a:srgbClr val="0536b3"/>
      </a:dk2>
      <a:lt2>
        <a:srgbClr val="7cb7f8"/>
      </a:lt2>
      <a:accent1>
        <a:srgbClr val="3f9ee4"/>
      </a:accent1>
      <a:accent2>
        <a:srgbClr val="77b559"/>
      </a:accent2>
      <a:accent3>
        <a:srgbClr val="e4a81b"/>
      </a:accent3>
      <a:accent4>
        <a:srgbClr val="108bb4"/>
      </a:accent4>
      <a:accent5>
        <a:srgbClr val="da7328"/>
      </a:accent5>
      <a:accent6>
        <a:srgbClr val="ae589f"/>
      </a:accent6>
      <a:hlink>
        <a:srgbClr val="460245"/>
      </a:hlink>
      <a:folHlink>
        <a:srgbClr val="ac17d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untain">
  <a:themeElements>
    <a:clrScheme name="Mountain">
      <a:dk1>
        <a:srgbClr val="000000"/>
      </a:dk1>
      <a:lt1>
        <a:srgbClr val="ffffff"/>
      </a:lt1>
      <a:dk2>
        <a:srgbClr val="0536b3"/>
      </a:dk2>
      <a:lt2>
        <a:srgbClr val="7cb7f8"/>
      </a:lt2>
      <a:accent1>
        <a:srgbClr val="3f9ee4"/>
      </a:accent1>
      <a:accent2>
        <a:srgbClr val="77b559"/>
      </a:accent2>
      <a:accent3>
        <a:srgbClr val="e4a81b"/>
      </a:accent3>
      <a:accent4>
        <a:srgbClr val="108bb4"/>
      </a:accent4>
      <a:accent5>
        <a:srgbClr val="da7328"/>
      </a:accent5>
      <a:accent6>
        <a:srgbClr val="ae589f"/>
      </a:accent6>
      <a:hlink>
        <a:srgbClr val="460245"/>
      </a:hlink>
      <a:folHlink>
        <a:srgbClr val="ac17d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Mountain</Template>
  <TotalTime>1407</TotalTime>
  <Application>LibreOffice/7.4.7.2$Linux_X86_64 LibreOffice_project/40$Build-2</Application>
  <AppVersion>15.0000</AppVersion>
  <Words>430</Words>
  <Paragraphs>6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vana</dc:creator>
  <dc:description/>
  <dc:language>en-US</dc:language>
  <cp:lastModifiedBy>Ivana</cp:lastModifiedBy>
  <dcterms:modified xsi:type="dcterms:W3CDTF">2012-01-30T14:00:00Z</dcterms:modified>
  <cp:revision>96</cp:revision>
  <dc:subject/>
  <dc:title>Workshop MAS Sokolovsk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ředvádění na obrazovce (4:3)</vt:lpwstr>
  </property>
  <property fmtid="{D5CDD505-2E9C-101B-9397-08002B2CF9AE}" pid="3" name="Slides">
    <vt:r8>12</vt:r8>
  </property>
</Properties>
</file>