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9394-A04A-42CB-B608-90DE2D923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99760"/>
            <a:ext cx="8229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16080"/>
            <a:ext cx="8229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C61B-44AC-4F83-A6DA-B81ED438C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9976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9976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16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16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790F-D325-4779-A7D7-AC8928141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9976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9976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9976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1608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1608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1608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3C15-3E07-4ADA-BBA4-F1AB9CB2A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C0CD6-DAFD-40A4-B901-7274F1D3F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499760"/>
            <a:ext cx="8229240" cy="46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66CCD-EF92-49AB-BCDB-B845C32DC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99760"/>
            <a:ext cx="8229240" cy="46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1C812-5990-41F0-91F7-C9AC7EBA7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99760"/>
            <a:ext cx="4015800" cy="46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99760"/>
            <a:ext cx="4015800" cy="46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BDFBA-5E89-4FF5-B5CC-52D93769C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4A2A7-9B6D-45A8-B443-B4BE8D667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FBE5E-93FC-4A59-8AD3-B843F7844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9976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99760"/>
            <a:ext cx="4015800" cy="46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16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60989-B881-4E28-991E-42FBF5B5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99760"/>
            <a:ext cx="8229240" cy="46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E4F4-792C-451B-8CD9-1134F4512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99760"/>
            <a:ext cx="4015800" cy="46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9976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16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6E5FC-0327-435A-9502-B0F752AF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9976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9976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16080"/>
            <a:ext cx="8229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529F4-EBA4-4878-984F-D2C6BC77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99760"/>
            <a:ext cx="8229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16080"/>
            <a:ext cx="8229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600C4-963F-4DE6-9ABC-8B8439CDD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9976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49976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16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16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13986-5184-4A12-A8FD-82CC613BA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9976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49976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49976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1608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1608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1608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FF77A-5417-4938-AE64-CBB6AF342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99760"/>
            <a:ext cx="8229240" cy="46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63CA-4815-4796-A498-B18B77D15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99760"/>
            <a:ext cx="4015800" cy="46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99760"/>
            <a:ext cx="4015800" cy="46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879A-8766-4143-BF32-054DFB31D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8766-0DE4-46FC-8421-0C54C261F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8DE8-7A47-444D-BCB3-72636DAA0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9976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99760"/>
            <a:ext cx="4015800" cy="46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16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27C8-DE7C-4EC7-B406-7B84F9B1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99760"/>
            <a:ext cx="4015800" cy="46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9976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16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9E7B-1129-42F2-8C94-808297AB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9976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9976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16080"/>
            <a:ext cx="8229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F2E6-7633-49B5-9891-FDD14004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-6840" y="0"/>
            <a:ext cx="9143640" cy="6286320"/>
          </a:xfrm>
          <a:prstGeom prst="rect">
            <a:avLst/>
          </a:prstGeom>
          <a:gradFill rotWithShape="0">
            <a:gsLst>
              <a:gs pos="1000">
                <a:srgbClr val="7cb7f8">
                  <a:alpha val="0"/>
                </a:srgbClr>
              </a:gs>
              <a:gs pos="100000">
                <a:srgbClr val="ffffff">
                  <a:alpha val="92156"/>
                </a:srgbClr>
              </a:gs>
            </a:gsLst>
            <a:lin ang="16200000"/>
          </a:gradFill>
          <a:ln w="28575">
            <a:noFill/>
          </a:ln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grpSp>
        <p:nvGrpSpPr>
          <p:cNvPr id="1" name="Group 16"/>
          <p:cNvGrpSpPr/>
          <p:nvPr/>
        </p:nvGrpSpPr>
        <p:grpSpPr>
          <a:xfrm>
            <a:off x="0" y="3268440"/>
            <a:ext cx="9143640" cy="145800"/>
            <a:chOff x="0" y="3268440"/>
            <a:chExt cx="9143640" cy="145800"/>
          </a:xfrm>
        </p:grpSpPr>
        <p:sp>
          <p:nvSpPr>
            <p:cNvPr id="2" name="Rectangle 12"/>
            <p:cNvSpPr/>
            <p:nvPr/>
          </p:nvSpPr>
          <p:spPr>
            <a:xfrm>
              <a:off x="0" y="3268440"/>
              <a:ext cx="9143640" cy="145800"/>
            </a:xfrm>
            <a:prstGeom prst="rect">
              <a:avLst/>
            </a:prstGeom>
            <a:solidFill>
              <a:schemeClr val="tx2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Gill Sans MT"/>
              </a:endParaRPr>
            </a:p>
          </p:txBody>
        </p:sp>
        <p:sp>
          <p:nvSpPr>
            <p:cNvPr id="3" name="Rectangle 13"/>
            <p:cNvSpPr/>
            <p:nvPr/>
          </p:nvSpPr>
          <p:spPr>
            <a:xfrm>
              <a:off x="5181480" y="3268440"/>
              <a:ext cx="1096920" cy="145800"/>
            </a:xfrm>
            <a:prstGeom prst="rect">
              <a:avLst/>
            </a:prstGeom>
            <a:solidFill>
              <a:schemeClr val="accent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Gill Sans MT"/>
              </a:endParaRPr>
            </a:p>
          </p:txBody>
        </p:sp>
        <p:sp>
          <p:nvSpPr>
            <p:cNvPr id="4" name="Rectangle 14"/>
            <p:cNvSpPr/>
            <p:nvPr/>
          </p:nvSpPr>
          <p:spPr>
            <a:xfrm>
              <a:off x="6278760" y="3268440"/>
              <a:ext cx="1096920" cy="145800"/>
            </a:xfrm>
            <a:prstGeom prst="rect">
              <a:avLst/>
            </a:prstGeom>
            <a:solidFill>
              <a:schemeClr val="accent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Gill Sans MT"/>
              </a:endParaRPr>
            </a:p>
          </p:txBody>
        </p:sp>
        <p:sp>
          <p:nvSpPr>
            <p:cNvPr id="5" name="Rectangle 15"/>
            <p:cNvSpPr/>
            <p:nvPr/>
          </p:nvSpPr>
          <p:spPr>
            <a:xfrm>
              <a:off x="7376040" y="3268440"/>
              <a:ext cx="1096920" cy="145800"/>
            </a:xfrm>
            <a:prstGeom prst="rect">
              <a:avLst/>
            </a:prstGeom>
            <a:solidFill>
              <a:schemeClr val="accent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Gill Sans MT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1752480"/>
            <a:ext cx="7924320" cy="146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ffffff"/>
                </a:solidFill>
                <a:latin typeface="Gill Sans MT"/>
              </a:rPr>
              <a:t>Klepnutím lze upravit styl předlohy nadpisů.</a:t>
            </a:r>
            <a:endParaRPr b="0" lang="cs-CZ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65746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cs-CZ" sz="1200" spc="-1" strike="noStrike">
                <a:solidFill>
                  <a:srgbClr val="000000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460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7525C68D-D65F-4BFA-8658-FE2F9FDE78E9}" type="slidenum">
              <a:rPr b="0" lang="cs-CZ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cs-CZ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cs-CZ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cs-CZ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cs-CZ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cs-CZ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cs-CZ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cs-CZ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cb7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-6840" y="0"/>
            <a:ext cx="9143640" cy="6286320"/>
          </a:xfrm>
          <a:prstGeom prst="rect">
            <a:avLst/>
          </a:prstGeom>
          <a:gradFill rotWithShape="0">
            <a:gsLst>
              <a:gs pos="1000">
                <a:srgbClr val="7cb7f8">
                  <a:alpha val="0"/>
                </a:srgbClr>
              </a:gs>
              <a:gs pos="100000">
                <a:srgbClr val="ffffff">
                  <a:alpha val="92156"/>
                </a:srgbClr>
              </a:gs>
            </a:gsLst>
            <a:lin ang="16200000"/>
          </a:gradFill>
          <a:ln w="28575">
            <a:noFill/>
          </a:ln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499760"/>
            <a:ext cx="8229240" cy="462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536b3"/>
              </a:buClr>
              <a:buSzPct val="70000"/>
              <a:buFont typeface="Wingdings 2" charset="2"/>
              <a:buChar char=""/>
            </a:pP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Klepnutím lze upravit styly předlohy textu.</a:t>
            </a: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108bb4"/>
              </a:buClr>
              <a:buSzPct val="60000"/>
              <a:buFont typeface="Wingdings 2" charset="2"/>
              <a:buChar char=""/>
            </a:pPr>
            <a:r>
              <a:rPr b="0" lang="cs-CZ" sz="2800" spc="-1" strike="noStrike">
                <a:solidFill>
                  <a:srgbClr val="000000"/>
                </a:solidFill>
                <a:latin typeface="Gill Sans MT"/>
              </a:rPr>
              <a:t>Druhá úroveň</a:t>
            </a:r>
            <a:endParaRPr b="0" lang="cs-CZ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da7328"/>
              </a:buClr>
              <a:buSzPct val="57000"/>
              <a:buFont typeface="Wingdings 2" charset="2"/>
              <a:buChar char=""/>
            </a:pPr>
            <a:r>
              <a:rPr b="0" lang="cs-CZ" sz="2400" spc="-1" strike="noStrike">
                <a:solidFill>
                  <a:srgbClr val="000000"/>
                </a:solidFill>
                <a:latin typeface="Gill Sans MT"/>
              </a:rPr>
              <a:t>Třetí úroveň</a:t>
            </a:r>
            <a:endParaRPr b="0" lang="cs-CZ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ae589f"/>
              </a:buClr>
              <a:buSzPct val="55000"/>
              <a:buFont typeface="Wingdings 2" charset="2"/>
              <a:buChar char=""/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Čtvrtá úroveň</a:t>
            </a:r>
            <a:endParaRPr b="0" lang="cs-CZ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77b559"/>
              </a:buClr>
              <a:buSzPct val="50000"/>
              <a:buFont typeface="Wingdings 2" charset="2"/>
              <a:buChar char=""/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Pátá úroveň</a:t>
            </a:r>
            <a:endParaRPr b="0" lang="cs-CZ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5746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cs-CZ" sz="1200" spc="-1" strike="noStrike">
                <a:solidFill>
                  <a:srgbClr val="000000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460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A5CE66F4-61A5-4A45-BDE0-B5E417B825D3}" type="slidenum">
              <a:rPr b="0" lang="cs-CZ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3"/>
          <p:cNvGrpSpPr/>
          <p:nvPr/>
        </p:nvGrpSpPr>
        <p:grpSpPr>
          <a:xfrm>
            <a:off x="0" y="1371600"/>
            <a:ext cx="9143640" cy="72720"/>
            <a:chOff x="0" y="1371600"/>
            <a:chExt cx="9143640" cy="72720"/>
          </a:xfrm>
        </p:grpSpPr>
        <p:sp>
          <p:nvSpPr>
            <p:cNvPr id="53" name="Rectangle 14"/>
            <p:cNvSpPr/>
            <p:nvPr/>
          </p:nvSpPr>
          <p:spPr>
            <a:xfrm>
              <a:off x="0" y="1371600"/>
              <a:ext cx="9143640" cy="72720"/>
            </a:xfrm>
            <a:prstGeom prst="rect">
              <a:avLst/>
            </a:prstGeom>
            <a:solidFill>
              <a:schemeClr val="tx2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8080" bIns="28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Gill Sans MT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>
              <a:off x="5181480" y="1371600"/>
              <a:ext cx="1096920" cy="72720"/>
            </a:xfrm>
            <a:prstGeom prst="rect">
              <a:avLst/>
            </a:prstGeom>
            <a:solidFill>
              <a:schemeClr val="accent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8080" bIns="28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Gill Sans MT"/>
              </a:endParaRPr>
            </a:p>
          </p:txBody>
        </p:sp>
        <p:sp>
          <p:nvSpPr>
            <p:cNvPr id="55" name="Rectangle 16"/>
            <p:cNvSpPr/>
            <p:nvPr/>
          </p:nvSpPr>
          <p:spPr>
            <a:xfrm>
              <a:off x="6278760" y="1371600"/>
              <a:ext cx="1096920" cy="72720"/>
            </a:xfrm>
            <a:prstGeom prst="rect">
              <a:avLst/>
            </a:prstGeom>
            <a:solidFill>
              <a:schemeClr val="accent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8080" bIns="28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Gill Sans MT"/>
              </a:endParaRPr>
            </a:p>
          </p:txBody>
        </p:sp>
        <p:sp>
          <p:nvSpPr>
            <p:cNvPr id="56" name="Rectangle 17"/>
            <p:cNvSpPr/>
            <p:nvPr/>
          </p:nvSpPr>
          <p:spPr>
            <a:xfrm>
              <a:off x="7376040" y="1371600"/>
              <a:ext cx="1096920" cy="72720"/>
            </a:xfrm>
            <a:prstGeom prst="rect">
              <a:avLst/>
            </a:prstGeom>
            <a:solidFill>
              <a:schemeClr val="accent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8080" bIns="28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Gill Sans MT"/>
              </a:endParaRPr>
            </a:p>
          </p:txBody>
        </p:sp>
      </p:grpSp>
      <p:sp>
        <p:nvSpPr>
          <p:cNvPr id="57" name="PlaceHolder 5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ffffff"/>
                </a:solidFill>
                <a:latin typeface="Gill Sans MT"/>
              </a:rPr>
              <a:t>Klepnutím lze upravit styl předlohy nadpisů.</a:t>
            </a:r>
            <a:endParaRPr b="0" lang="cs-CZ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1640" y="1484640"/>
            <a:ext cx="792432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ffffff"/>
                </a:solidFill>
                <a:latin typeface="Gill Sans MT"/>
              </a:rPr>
              <a:t>MAS Sokolovsko</a:t>
            </a:r>
            <a:endParaRPr b="0" lang="cs-CZ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539640" y="3789000"/>
            <a:ext cx="820872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ill Sans MT"/>
              </a:rPr>
              <a:t>Prezentující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ill Sans MT"/>
              </a:rPr>
              <a:t>Ing. Ivana Jágri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Gill Sans MT"/>
              </a:rPr>
              <a:t>Ing. Miroslav Makovič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ill Sans MT"/>
              </a:rPr>
              <a:t>31.01.2012 – Rota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logo_publicita_barevné"/>
          <p:cNvPicPr/>
          <p:nvPr/>
        </p:nvPicPr>
        <p:blipFill>
          <a:blip r:embed="rId1"/>
          <a:stretch/>
        </p:blipFill>
        <p:spPr>
          <a:xfrm>
            <a:off x="1403640" y="188640"/>
            <a:ext cx="6185160" cy="8949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499760"/>
            <a:ext cx="86864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536b3"/>
              </a:buClr>
              <a:buSzPct val="70000"/>
              <a:buFont typeface="Wingdings 2" charset="2"/>
              <a:buChar char=""/>
            </a:pP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Rekonstrukce klubovny pro mládež organizovanou v kynologickém klubu a výstavba dráhy pro trénink agility v rámci činnosti mládeže. Místo realizace je v Dolních Pochlovicích (do 500 obyvatel).</a:t>
            </a: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+</a:t>
            </a: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Zajímavé, inovativní, kynologie je oblíbená.</a:t>
            </a: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-</a:t>
            </a: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Stavební povolení se vyřizuje, mělo by se stihnout.</a:t>
            </a: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395640" y="152280"/>
            <a:ext cx="849672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ffffff"/>
                </a:solidFill>
                <a:latin typeface="Gill Sans MT"/>
              </a:rPr>
              <a:t>V.  Kynšperk nad Ohří</a:t>
            </a:r>
            <a:endParaRPr b="0" lang="cs-CZ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499760"/>
            <a:ext cx="86864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41"/>
              </a:spcBef>
              <a:buClr>
                <a:srgbClr val="0536b3"/>
              </a:buClr>
              <a:buSzPct val="70000"/>
              <a:buFont typeface="Wingdings 2" charset="2"/>
              <a:buChar char=""/>
            </a:pP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Nutné finanční zapojí se do předfinancování projektu a do spoluúčasti projektu.</a:t>
            </a: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100000"/>
              </a:lnSpc>
              <a:spcBef>
                <a:spcPts val="641"/>
              </a:spcBef>
              <a:buClr>
                <a:srgbClr val="0536b3"/>
              </a:buClr>
              <a:buSzPct val="70000"/>
              <a:buFont typeface="Wingdings 2" charset="2"/>
              <a:buChar char=""/>
            </a:pP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Bude nutné zapojit místní dobrovolníky – do plánování, realizace, udržitelnosti – aktivita dětí sdružených do kroužků, organizací,…</a:t>
            </a: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100000"/>
              </a:lnSpc>
              <a:spcBef>
                <a:spcPts val="641"/>
              </a:spcBef>
              <a:buClr>
                <a:srgbClr val="0536b3"/>
              </a:buClr>
              <a:buSzPct val="70000"/>
              <a:buFont typeface="Wingdings 2" charset="2"/>
              <a:buChar char=""/>
            </a:pP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Počítat s udržitelností 5 let od zahájení projektu, tj.  pouze cca 3 roky od ukončení projektu.</a:t>
            </a: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100000"/>
              </a:lnSpc>
              <a:spcBef>
                <a:spcPts val="641"/>
              </a:spcBef>
              <a:buClr>
                <a:srgbClr val="0536b3"/>
              </a:buClr>
              <a:buSzPct val="70000"/>
              <a:buFont typeface="Wingdings 2" charset="2"/>
              <a:buChar char=""/>
            </a:pP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Žadatelem bude MAS, která bude mít DPH způsobilé (pokud žádá obec, je DPH vždy nezpůsobilé).</a:t>
            </a: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395640" y="152280"/>
            <a:ext cx="849672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ffffff"/>
                </a:solidFill>
                <a:latin typeface="Gill Sans MT"/>
              </a:rPr>
              <a:t>VI.  Rizika vs výhody</a:t>
            </a:r>
            <a:endParaRPr b="0" lang="cs-CZ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499760"/>
            <a:ext cx="8229240" cy="462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536b3"/>
              </a:buClr>
              <a:buSzPct val="70000"/>
              <a:buFont typeface="Wingdings 2" charset="2"/>
              <a:buChar char=""/>
            </a:pP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Kontakty:</a:t>
            </a: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da7328"/>
              </a:buClr>
              <a:buSzPct val="57000"/>
              <a:buFont typeface="Wingdings 2" charset="2"/>
              <a:buChar char=""/>
            </a:pPr>
            <a:r>
              <a:rPr b="0" lang="cs-CZ" sz="2400" spc="-1" strike="noStrike">
                <a:solidFill>
                  <a:srgbClr val="000000"/>
                </a:solidFill>
                <a:latin typeface="Gill Sans MT"/>
              </a:rPr>
              <a:t>Mobil: 739 011 869</a:t>
            </a:r>
            <a:endParaRPr b="0" lang="cs-CZ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da7328"/>
              </a:buClr>
              <a:buSzPct val="57000"/>
              <a:buFont typeface="Wingdings 2" charset="2"/>
              <a:buChar char=""/>
            </a:pPr>
            <a:r>
              <a:rPr b="0" lang="cs-CZ" sz="2400" spc="-1" strike="noStrike">
                <a:solidFill>
                  <a:srgbClr val="000000"/>
                </a:solidFill>
                <a:latin typeface="Gill Sans MT"/>
              </a:rPr>
              <a:t>Telefon: 352 633 520</a:t>
            </a:r>
            <a:endParaRPr b="0" lang="cs-CZ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da7328"/>
              </a:buClr>
              <a:buSzPct val="57000"/>
              <a:buFont typeface="Wingdings 2" charset="2"/>
              <a:buChar char=""/>
            </a:pPr>
            <a:r>
              <a:rPr b="0" lang="cs-CZ" sz="2400" spc="-1" strike="noStrike">
                <a:solidFill>
                  <a:srgbClr val="000000"/>
                </a:solidFill>
                <a:latin typeface="Gill Sans MT"/>
              </a:rPr>
              <a:t>E-mail: mas.sokolovsko@volny.cz</a:t>
            </a:r>
            <a:endParaRPr b="0" lang="cs-CZ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da7328"/>
              </a:buClr>
              <a:buSzPct val="57000"/>
              <a:buFont typeface="Wingdings 2" charset="2"/>
              <a:buChar char=""/>
            </a:pPr>
            <a:r>
              <a:rPr b="0" lang="cs-CZ" sz="2400" spc="-1" strike="noStrike">
                <a:solidFill>
                  <a:srgbClr val="000000"/>
                </a:solidFill>
                <a:latin typeface="Gill Sans MT"/>
              </a:rPr>
              <a:t>www.mas-sokolovsko.eu</a:t>
            </a:r>
            <a:endParaRPr b="0" lang="cs-CZ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da7328"/>
              </a:buClr>
              <a:buSzPct val="57000"/>
              <a:buFont typeface="Wingdings 2" charset="2"/>
              <a:buChar char=""/>
            </a:pPr>
            <a:r>
              <a:rPr b="0" lang="cs-CZ" sz="2400" spc="-1" strike="noStrike">
                <a:solidFill>
                  <a:srgbClr val="000000"/>
                </a:solidFill>
                <a:latin typeface="Gill Sans MT"/>
              </a:rPr>
              <a:t>Sídlo: Nám. Míru 230, 357 61 Březová</a:t>
            </a:r>
            <a:endParaRPr b="0" lang="cs-CZ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ffffff"/>
                </a:solidFill>
                <a:latin typeface="Gill Sans MT"/>
              </a:rPr>
              <a:t>Děkujeme za pozornost</a:t>
            </a:r>
            <a:endParaRPr b="0" lang="cs-CZ" sz="4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19" name="Picture 2" descr="logo_publicita_barevné"/>
          <p:cNvPicPr/>
          <p:nvPr/>
        </p:nvPicPr>
        <p:blipFill>
          <a:blip r:embed="rId1"/>
          <a:stretch/>
        </p:blipFill>
        <p:spPr>
          <a:xfrm>
            <a:off x="1403640" y="5805360"/>
            <a:ext cx="6185160" cy="8949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499760"/>
            <a:ext cx="8290800" cy="502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536b3"/>
              </a:buClr>
              <a:buSzPct val="70000"/>
              <a:buFont typeface="Wingdings 2" charset="2"/>
              <a:buChar char=""/>
            </a:pPr>
            <a:r>
              <a:rPr b="1" lang="cs-CZ" sz="3200" spc="-1" strike="noStrike">
                <a:solidFill>
                  <a:srgbClr val="000000"/>
                </a:solidFill>
                <a:latin typeface="Gill Sans MT"/>
              </a:rPr>
              <a:t>Pracovní název projektu</a:t>
            </a: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: Dejme mladým lidem příležitost formovat budoucí venkov (Give to young people the opportunity to create future countryside).</a:t>
            </a: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536b3"/>
              </a:buClr>
              <a:buSzPct val="70000"/>
              <a:buFont typeface="Wingdings 2" charset="2"/>
              <a:buChar char=""/>
            </a:pP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Žádost bude podána do PRV, 15. kolo, opatření IV.2.1 Realizace projektů mezinárodní spolupráce.</a:t>
            </a: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536b3"/>
              </a:buClr>
              <a:buSzPct val="70000"/>
              <a:buFont typeface="Wingdings 2" charset="2"/>
              <a:buChar char=""/>
            </a:pPr>
            <a:r>
              <a:rPr b="1" lang="cs-CZ" sz="3200" spc="-1" strike="noStrike">
                <a:solidFill>
                  <a:srgbClr val="000000"/>
                </a:solidFill>
                <a:latin typeface="Gill Sans MT"/>
              </a:rPr>
              <a:t>Termín odevzdání </a:t>
            </a: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– do 27.3.2012.</a:t>
            </a: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395640" y="152280"/>
            <a:ext cx="849672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ffffff"/>
                </a:solidFill>
                <a:latin typeface="Gill Sans MT"/>
              </a:rPr>
              <a:t>1.  Identifikace záměru</a:t>
            </a:r>
            <a:endParaRPr b="0" lang="cs-CZ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499760"/>
            <a:ext cx="85068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41"/>
              </a:spcBef>
              <a:buClr>
                <a:srgbClr val="0536b3"/>
              </a:buClr>
              <a:buSzPct val="70000"/>
              <a:buFont typeface="Wingdings 2" charset="2"/>
              <a:buChar char=""/>
            </a:pPr>
            <a:r>
              <a:rPr b="1" lang="cs-CZ" sz="3200" spc="-1" strike="noStrike">
                <a:solidFill>
                  <a:srgbClr val="000000"/>
                </a:solidFill>
                <a:latin typeface="Gill Sans MT"/>
              </a:rPr>
              <a:t>Partneři:</a:t>
            </a: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68520" indent="-257040">
              <a:lnSpc>
                <a:spcPct val="100000"/>
              </a:lnSpc>
              <a:spcBef>
                <a:spcPts val="561"/>
              </a:spcBef>
              <a:buClr>
                <a:srgbClr val="108bb4"/>
              </a:buClr>
              <a:buSzPct val="60000"/>
              <a:buFont typeface="Wingdings 2" charset="2"/>
              <a:buChar char=""/>
            </a:pPr>
            <a:r>
              <a:rPr b="0" lang="cs-CZ" sz="2800" spc="-1" strike="noStrike">
                <a:solidFill>
                  <a:srgbClr val="000000"/>
                </a:solidFill>
                <a:latin typeface="Gill Sans MT"/>
              </a:rPr>
              <a:t>ČR: MAS Cínovecko o.p.s. (koordinační MAS)</a:t>
            </a:r>
            <a:endParaRPr b="0" lang="cs-CZ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8520" indent="-257040">
              <a:lnSpc>
                <a:spcPct val="100000"/>
              </a:lnSpc>
              <a:spcBef>
                <a:spcPts val="561"/>
              </a:spcBef>
              <a:buClr>
                <a:srgbClr val="108bb4"/>
              </a:buClr>
              <a:buSzPct val="60000"/>
              <a:buFont typeface="Wingdings 2" charset="2"/>
              <a:buChar char=""/>
            </a:pPr>
            <a:r>
              <a:rPr b="0" lang="cs-CZ" sz="2800" spc="-1" strike="noStrike">
                <a:solidFill>
                  <a:srgbClr val="000000"/>
                </a:solidFill>
                <a:latin typeface="Gill Sans MT"/>
              </a:rPr>
              <a:t>ČR: MAS Sokolovsko o.p.s. (partner)</a:t>
            </a:r>
            <a:endParaRPr b="0" lang="cs-CZ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8520" indent="-257040">
              <a:lnSpc>
                <a:spcPct val="100000"/>
              </a:lnSpc>
              <a:spcBef>
                <a:spcPts val="561"/>
              </a:spcBef>
              <a:buClr>
                <a:srgbClr val="108bb4"/>
              </a:buClr>
              <a:buSzPct val="60000"/>
              <a:buFont typeface="Wingdings 2" charset="2"/>
              <a:buChar char=""/>
            </a:pPr>
            <a:r>
              <a:rPr b="0" lang="cs-CZ" sz="2800" spc="-1" strike="noStrike">
                <a:solidFill>
                  <a:srgbClr val="000000"/>
                </a:solidFill>
                <a:latin typeface="Gill Sans MT"/>
              </a:rPr>
              <a:t>ČR: MAS Serviso, o.p.s. (partner)</a:t>
            </a:r>
            <a:endParaRPr b="0" lang="cs-CZ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8520" indent="-257040">
              <a:lnSpc>
                <a:spcPct val="100000"/>
              </a:lnSpc>
              <a:spcBef>
                <a:spcPts val="561"/>
              </a:spcBef>
              <a:buClr>
                <a:srgbClr val="108bb4"/>
              </a:buClr>
              <a:buSzPct val="60000"/>
              <a:buFont typeface="Wingdings 2" charset="2"/>
              <a:buChar char=""/>
            </a:pPr>
            <a:r>
              <a:rPr b="0" lang="cs-CZ" sz="2800" spc="-1" strike="noStrike">
                <a:solidFill>
                  <a:srgbClr val="000000"/>
                </a:solidFill>
                <a:latin typeface="Gill Sans MT"/>
              </a:rPr>
              <a:t>Finsko: LAG Aktiivinen Pohjois-Satakunta ry</a:t>
            </a:r>
            <a:endParaRPr b="0" lang="cs-CZ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8520" indent="-257040">
              <a:lnSpc>
                <a:spcPct val="100000"/>
              </a:lnSpc>
              <a:spcBef>
                <a:spcPts val="561"/>
              </a:spcBef>
              <a:buClr>
                <a:srgbClr val="108bb4"/>
              </a:buClr>
              <a:buSzPct val="60000"/>
              <a:buFont typeface="Wingdings 2" charset="2"/>
              <a:buChar char=""/>
            </a:pPr>
            <a:r>
              <a:rPr b="0" lang="cs-CZ" sz="2800" spc="-1" strike="noStrike">
                <a:solidFill>
                  <a:srgbClr val="000000"/>
                </a:solidFill>
                <a:latin typeface="Gill Sans MT"/>
              </a:rPr>
              <a:t>Finsko: LAG Karkuseutu (v jednání)</a:t>
            </a:r>
            <a:endParaRPr b="0" lang="cs-CZ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8520" indent="-257040">
              <a:lnSpc>
                <a:spcPct val="100000"/>
              </a:lnSpc>
              <a:spcBef>
                <a:spcPts val="561"/>
              </a:spcBef>
              <a:buClr>
                <a:srgbClr val="108bb4"/>
              </a:buClr>
              <a:buSzPct val="60000"/>
              <a:buFont typeface="Wingdings 2" charset="2"/>
              <a:buChar char=""/>
            </a:pPr>
            <a:r>
              <a:rPr b="0" lang="cs-CZ" sz="2800" spc="-1" strike="noStrike">
                <a:solidFill>
                  <a:srgbClr val="000000"/>
                </a:solidFill>
                <a:latin typeface="Gill Sans MT"/>
              </a:rPr>
              <a:t>SRN: Verein zur Entwicklung der Vorerzgebirgsregion, Augustusburger Land a.V., Sasko</a:t>
            </a:r>
            <a:endParaRPr b="0" lang="cs-CZ" sz="28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100000"/>
              </a:lnSpc>
              <a:spcBef>
                <a:spcPts val="641"/>
              </a:spcBef>
              <a:buClr>
                <a:srgbClr val="0536b3"/>
              </a:buClr>
              <a:buSzPct val="70000"/>
              <a:buFont typeface="Wingdings 2" charset="2"/>
              <a:buChar char=""/>
            </a:pPr>
            <a:r>
              <a:rPr b="1" lang="cs-CZ" sz="3200" spc="-1" strike="noStrike">
                <a:solidFill>
                  <a:srgbClr val="000000"/>
                </a:solidFill>
                <a:latin typeface="Gill Sans MT"/>
              </a:rPr>
              <a:t>Celkový rozpočet českých partnerů projektu</a:t>
            </a: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: max. 5 mil. Kč, max. 1,5 mil. Kč/MAS.</a:t>
            </a: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395640" y="152280"/>
            <a:ext cx="849672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ffffff"/>
                </a:solidFill>
                <a:latin typeface="Gill Sans MT"/>
              </a:rPr>
              <a:t>1.  Identifikace záměru</a:t>
            </a:r>
            <a:endParaRPr b="0" lang="cs-CZ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499760"/>
            <a:ext cx="86864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536b3"/>
              </a:buClr>
              <a:buSzPct val="70000"/>
              <a:buFont typeface="Wingdings 2" charset="2"/>
              <a:buChar char=""/>
            </a:pPr>
            <a:r>
              <a:rPr b="0" lang="cs-CZ" sz="3000" spc="-1" strike="noStrike">
                <a:solidFill>
                  <a:srgbClr val="000000"/>
                </a:solidFill>
                <a:latin typeface="Gill Sans MT"/>
              </a:rPr>
              <a:t>Povzbudit a podpořit spolupráci mezi českými a zahraničními MAS a motivovat území zúčastněných MAS na řešení společných problémů v následujících oblastech</a:t>
            </a:r>
            <a:r>
              <a:rPr b="0" lang="cs-CZ" sz="28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cs-CZ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5480" indent="-282960">
              <a:lnSpc>
                <a:spcPct val="100000"/>
              </a:lnSpc>
              <a:spcBef>
                <a:spcPts val="519"/>
              </a:spcBef>
              <a:buClr>
                <a:srgbClr val="108bb4"/>
              </a:buClr>
              <a:buSzPct val="60000"/>
              <a:buFont typeface="Wingdings 2" charset="2"/>
              <a:buChar char=""/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Zvýšení soudržnosti obyvatel, přispění k zachování tradic, upevnění lokální identity a mezilidských vztahů, posilování uplatňování principů Leader prostřednictvím měkkých akcí.</a:t>
            </a:r>
            <a:endParaRPr b="0" lang="cs-CZ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735480" indent="-282960">
              <a:lnSpc>
                <a:spcPct val="100000"/>
              </a:lnSpc>
              <a:spcBef>
                <a:spcPts val="519"/>
              </a:spcBef>
              <a:buClr>
                <a:srgbClr val="108bb4"/>
              </a:buClr>
              <a:buSzPct val="60000"/>
              <a:buFont typeface="Wingdings 2" charset="2"/>
              <a:buChar char=""/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Zajištění zázemí pro aktivity dětí a mládeže prostřednictvím místních společenských, kulturních, zájmových a sportovních organizací, které upevňují lokální identitu a mezilidské vztahy. </a:t>
            </a:r>
            <a:endParaRPr b="0" lang="cs-CZ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395640" y="152280"/>
            <a:ext cx="849672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ffffff"/>
                </a:solidFill>
                <a:latin typeface="Gill Sans MT"/>
              </a:rPr>
              <a:t>1I.  Globální cíle projektu</a:t>
            </a:r>
            <a:endParaRPr b="0" lang="cs-CZ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1640" y="1499760"/>
            <a:ext cx="8892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41"/>
              </a:spcBef>
              <a:buClr>
                <a:srgbClr val="0536b3"/>
              </a:buClr>
              <a:buSzPct val="70000"/>
              <a:buFont typeface="Wingdings 2" charset="2"/>
              <a:buChar char=""/>
            </a:pPr>
            <a:r>
              <a:rPr b="0" lang="cs-CZ" sz="2700" spc="-1" strike="noStrike">
                <a:solidFill>
                  <a:srgbClr val="000000"/>
                </a:solidFill>
                <a:latin typeface="Gill Sans MT"/>
              </a:rPr>
              <a:t>Podpora zapojení mládeže z venkova do komunitní práce MAS, jejich příprava na život ve změněných ekonomických, sociálních i společenských podmínkách globalizovaného světa a pro práci v řídících strukturách obcí a MAS.  </a:t>
            </a:r>
            <a:endParaRPr b="0" lang="cs-CZ" sz="27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541"/>
              </a:spcBef>
              <a:buClr>
                <a:srgbClr val="0536b3"/>
              </a:buClr>
              <a:buSzPct val="70000"/>
              <a:buFont typeface="Wingdings 2" charset="2"/>
              <a:buChar char=""/>
            </a:pPr>
            <a:r>
              <a:rPr b="0" lang="cs-CZ" sz="2700" spc="-1" strike="noStrike">
                <a:solidFill>
                  <a:srgbClr val="000000"/>
                </a:solidFill>
                <a:latin typeface="Gill Sans MT"/>
              </a:rPr>
              <a:t>Současně podpořit i využití zkušeností starší generace jak v odborných oblastech, tak i při řízení a rozvoji obcí a komunitní práce a vzájemné spolupráce generačně různých součástí společnosti. </a:t>
            </a:r>
            <a:endParaRPr b="0" lang="cs-CZ" sz="27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541"/>
              </a:spcBef>
              <a:buClr>
                <a:srgbClr val="0536b3"/>
              </a:buClr>
              <a:buSzPct val="70000"/>
              <a:buFont typeface="Wingdings 2" charset="2"/>
              <a:buChar char=""/>
            </a:pPr>
            <a:r>
              <a:rPr b="0" lang="cs-CZ" sz="2700" spc="-1" strike="noStrike">
                <a:solidFill>
                  <a:srgbClr val="000000"/>
                </a:solidFill>
                <a:latin typeface="Gill Sans MT"/>
              </a:rPr>
              <a:t>Vybudování zázemí pro rozvoj aktivit mladých lidí - rekonstrukcí nebo vybudováním nových míst pro setkávání a učení,  zvyšování povědomí o životním prostředí a prohlubování kontaktů pomocí společných sportovních akcí. </a:t>
            </a:r>
            <a:endParaRPr b="0" lang="cs-CZ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95640" y="152280"/>
            <a:ext cx="849672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ffffff"/>
                </a:solidFill>
                <a:latin typeface="Gill Sans MT"/>
              </a:rPr>
              <a:t>1I.  Specifické cíle projektu</a:t>
            </a:r>
            <a:endParaRPr b="0" lang="cs-CZ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499760"/>
            <a:ext cx="86864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536b3"/>
              </a:buClr>
              <a:buSzPct val="70000"/>
              <a:buFont typeface="Wingdings 2" charset="2"/>
              <a:buChar char=""/>
            </a:pPr>
            <a:r>
              <a:rPr b="0" lang="cs-CZ" sz="3000" spc="-1" strike="noStrike">
                <a:solidFill>
                  <a:srgbClr val="000000"/>
                </a:solidFill>
                <a:latin typeface="Gill Sans MT"/>
              </a:rPr>
              <a:t>Vytvoření a zajištění činnosti „stínové  Koordinační pracovní skupiny“ projektu  složené z mladých lidí a „stínových Pracovních skupin“  v rámci jednotlivých zainteresovaných  MAS , včetně podpory zajištění  jejich úzké spolupráce  s příslušnými obcemi a organizacemi – členy MAS.</a:t>
            </a:r>
            <a:endParaRPr b="0" lang="cs-CZ" sz="30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536b3"/>
              </a:buClr>
              <a:buSzPct val="70000"/>
              <a:buFont typeface="Wingdings 2" charset="2"/>
              <a:buChar char=""/>
            </a:pPr>
            <a:r>
              <a:rPr b="0" lang="cs-CZ" sz="3000" spc="-1" strike="noStrike">
                <a:solidFill>
                  <a:srgbClr val="000000"/>
                </a:solidFill>
                <a:latin typeface="Gill Sans MT"/>
              </a:rPr>
              <a:t>Setkání  prac.  skupin s partnery,  vzájemná výměna zkušeností (společné akce, kulaté stoly a odborné semináře v rámci jednotlivých partnerských MAS).</a:t>
            </a:r>
            <a:endParaRPr b="0" lang="cs-CZ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395640" y="152280"/>
            <a:ext cx="849672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 indent="0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ffffff"/>
                </a:solidFill>
                <a:latin typeface="Gill Sans MT"/>
              </a:rPr>
              <a:t>1II.  Obsah projektu – měkké aktivity</a:t>
            </a:r>
            <a:endParaRPr b="0" lang="cs-CZ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499760"/>
            <a:ext cx="86864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303840" indent="-303840">
              <a:lnSpc>
                <a:spcPct val="100000"/>
              </a:lnSpc>
              <a:spcBef>
                <a:spcPts val="641"/>
              </a:spcBef>
              <a:buClr>
                <a:srgbClr val="0536b3"/>
              </a:buClr>
              <a:buSzPct val="70000"/>
              <a:buFont typeface="Wingdings 2" charset="2"/>
              <a:buChar char=""/>
            </a:pP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Vytvoření  a rozvinutí  činnosti „Rady starších“ z odborníků, současných a bývalých starostů a členů zastupitelstev i dalších aktivních občanů – seniorů.</a:t>
            </a: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  <a:p>
            <a:pPr marL="303840" indent="-303840">
              <a:lnSpc>
                <a:spcPct val="100000"/>
              </a:lnSpc>
              <a:spcBef>
                <a:spcPts val="641"/>
              </a:spcBef>
              <a:buClr>
                <a:srgbClr val="0536b3"/>
              </a:buClr>
              <a:buSzPct val="70000"/>
              <a:buFont typeface="Wingdings 2" charset="2"/>
              <a:buChar char=""/>
            </a:pP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Mezinárodní setkávání  mladých lidí (letní tábory  typu Natureblok) zaměřených na témata:</a:t>
            </a: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58440" indent="-253080">
              <a:lnSpc>
                <a:spcPct val="100000"/>
              </a:lnSpc>
              <a:spcBef>
                <a:spcPts val="519"/>
              </a:spcBef>
              <a:buClr>
                <a:srgbClr val="108bb4"/>
              </a:buClr>
              <a:buSzPct val="60000"/>
              <a:buFont typeface="Wingdings 2" charset="2"/>
              <a:buChar char=""/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životní prostředí: jeho tvorba a ochrana</a:t>
            </a:r>
            <a:endParaRPr b="0" lang="cs-CZ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58440" indent="-253080">
              <a:lnSpc>
                <a:spcPct val="100000"/>
              </a:lnSpc>
              <a:spcBef>
                <a:spcPts val="519"/>
              </a:spcBef>
              <a:buClr>
                <a:srgbClr val="108bb4"/>
              </a:buClr>
              <a:buSzPct val="60000"/>
              <a:buFont typeface="Wingdings 2" charset="2"/>
              <a:buChar char=""/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zvyšování jazykových kompetencí</a:t>
            </a:r>
            <a:endParaRPr b="0" lang="cs-CZ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58440" indent="-253080">
              <a:lnSpc>
                <a:spcPct val="100000"/>
              </a:lnSpc>
              <a:spcBef>
                <a:spcPts val="519"/>
              </a:spcBef>
              <a:buClr>
                <a:srgbClr val="108bb4"/>
              </a:buClr>
              <a:buSzPct val="60000"/>
              <a:buFont typeface="Wingdings 2" charset="2"/>
              <a:buChar char=""/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rozvoj kulturních, společenských a sportovních aktivit  jako  nástroje pro neformální  a přirozenou  podporu  prohlubování partnerství a vzájemných vztahů mladých lidí z různých zemí</a:t>
            </a:r>
            <a:endParaRPr b="0" lang="cs-CZ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58440" indent="-253080">
              <a:lnSpc>
                <a:spcPct val="100000"/>
              </a:lnSpc>
              <a:spcBef>
                <a:spcPts val="519"/>
              </a:spcBef>
              <a:buClr>
                <a:srgbClr val="108bb4"/>
              </a:buClr>
              <a:buSzPct val="60000"/>
              <a:buFont typeface="Wingdings 2" charset="2"/>
              <a:buChar char=""/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rozvoj kompetencí  v oblasti moderních informačních a komunikačních technologií</a:t>
            </a:r>
            <a:endParaRPr b="0" lang="cs-CZ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395640" y="152280"/>
            <a:ext cx="849672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 indent="0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ffffff"/>
                </a:solidFill>
                <a:latin typeface="Gill Sans MT"/>
              </a:rPr>
              <a:t>1II.  Obsah projektu – měkké aktivity</a:t>
            </a:r>
            <a:endParaRPr b="0" lang="cs-CZ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499760"/>
            <a:ext cx="86864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92680" indent="-292680">
              <a:lnSpc>
                <a:spcPct val="100000"/>
              </a:lnSpc>
              <a:spcBef>
                <a:spcPts val="641"/>
              </a:spcBef>
              <a:buClr>
                <a:srgbClr val="0536b3"/>
              </a:buClr>
              <a:buSzPct val="70000"/>
              <a:buFont typeface="Wingdings 2" charset="2"/>
              <a:buChar char=""/>
            </a:pP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Vybudování a vybavení „kluboven“ či „středisek“ pro setkávání a činnost mladých lidí zapojených do projektu.</a:t>
            </a: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  <a:p>
            <a:pPr marL="292680" indent="-292680">
              <a:lnSpc>
                <a:spcPct val="100000"/>
              </a:lnSpc>
              <a:spcBef>
                <a:spcPts val="641"/>
              </a:spcBef>
              <a:buClr>
                <a:srgbClr val="0536b3"/>
              </a:buClr>
              <a:buSzPct val="70000"/>
              <a:buFont typeface="Wingdings 2" charset="2"/>
              <a:buChar char=""/>
            </a:pP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Rekonstrukce nebo nová výstavba hřišť, multifunkčních ploch a sportovních zařízení.</a:t>
            </a: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  <a:p>
            <a:pPr marL="292680" indent="-292680">
              <a:lnSpc>
                <a:spcPct val="100000"/>
              </a:lnSpc>
              <a:spcBef>
                <a:spcPts val="641"/>
              </a:spcBef>
              <a:buClr>
                <a:srgbClr val="0536b3"/>
              </a:buClr>
              <a:buSzPct val="70000"/>
              <a:buFont typeface="Wingdings 2" charset="2"/>
              <a:buChar char=""/>
            </a:pP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Budování infrastruktury pro rozvoj aktivit spojených s ochranou, tvorbou životního prostředí a s tím spojenou publicitou a propagací.</a:t>
            </a: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  <a:p>
            <a:pPr marL="292680" indent="-292680">
              <a:lnSpc>
                <a:spcPct val="100000"/>
              </a:lnSpc>
              <a:spcBef>
                <a:spcPts val="641"/>
              </a:spcBef>
              <a:buClr>
                <a:srgbClr val="0536b3"/>
              </a:buClr>
              <a:buSzPct val="70000"/>
              <a:buFont typeface="Wingdings 2" charset="2"/>
              <a:buChar char=""/>
            </a:pP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Případně  další doplněné na základě konkrétních potřeb jednotlivých MAS.</a:t>
            </a: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  <a:p>
            <a:pPr marL="292680" indent="-292680">
              <a:lnSpc>
                <a:spcPct val="100000"/>
              </a:lnSpc>
              <a:spcBef>
                <a:spcPts val="641"/>
              </a:spcBef>
              <a:buClr>
                <a:srgbClr val="0536b3"/>
              </a:buClr>
              <a:buSzPct val="70000"/>
              <a:buFont typeface="Wingdings 2" charset="2"/>
              <a:buChar char=""/>
            </a:pP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Snaha podpořit „</a:t>
            </a:r>
            <a:r>
              <a:rPr b="1" lang="cs-CZ" sz="3200" spc="-1" strike="noStrike">
                <a:solidFill>
                  <a:srgbClr val="000000"/>
                </a:solidFill>
                <a:latin typeface="Gill Sans MT"/>
              </a:rPr>
              <a:t>malé sporty</a:t>
            </a: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“ – tradice, šipky, praky, kulečník (jednodušší udržitelnost, mládež baví, je mezinárodní).</a:t>
            </a: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395640" y="152280"/>
            <a:ext cx="849672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8000"/>
          </a:bodyPr>
          <a:p>
            <a:pPr indent="0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ffffff"/>
                </a:solidFill>
                <a:latin typeface="Gill Sans MT"/>
              </a:rPr>
              <a:t>V.  Konkrétní tvrdé aktivity - návrhy</a:t>
            </a:r>
            <a:endParaRPr b="0" lang="cs-CZ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499760"/>
            <a:ext cx="86864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536b3"/>
              </a:buClr>
              <a:buSzPct val="70000"/>
              <a:buFont typeface="Wingdings 2" charset="2"/>
              <a:buChar char=""/>
            </a:pP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Vybudování dětského hřiště na fotbalovém hřišti (rozloha 280 m2, rozpočet 570.000 Kč, stavební povolení vyřízené).</a:t>
            </a: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- </a:t>
            </a: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Není úplně v souladu se záměrem projektu.</a:t>
            </a: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-</a:t>
            </a: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Zvažují podání do jiného dotačního titulu.</a:t>
            </a:r>
            <a:endParaRPr b="0" lang="cs-CZ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395640" y="152280"/>
            <a:ext cx="849672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ffffff"/>
                </a:solidFill>
                <a:latin typeface="Gill Sans MT"/>
              </a:rPr>
              <a:t>V.  Nové Sedlo – v jednání</a:t>
            </a:r>
            <a:endParaRPr b="0" lang="cs-CZ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ountain">
  <a:themeElements>
    <a:clrScheme name="Mountain">
      <a:dk1>
        <a:srgbClr val="000000"/>
      </a:dk1>
      <a:lt1>
        <a:srgbClr val="ffffff"/>
      </a:lt1>
      <a:dk2>
        <a:srgbClr val="0536b3"/>
      </a:dk2>
      <a:lt2>
        <a:srgbClr val="7cb7f8"/>
      </a:lt2>
      <a:accent1>
        <a:srgbClr val="3f9ee4"/>
      </a:accent1>
      <a:accent2>
        <a:srgbClr val="77b559"/>
      </a:accent2>
      <a:accent3>
        <a:srgbClr val="e4a81b"/>
      </a:accent3>
      <a:accent4>
        <a:srgbClr val="108bb4"/>
      </a:accent4>
      <a:accent5>
        <a:srgbClr val="da7328"/>
      </a:accent5>
      <a:accent6>
        <a:srgbClr val="ae589f"/>
      </a:accent6>
      <a:hlink>
        <a:srgbClr val="460245"/>
      </a:hlink>
      <a:folHlink>
        <a:srgbClr val="ac17d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ountain">
  <a:themeElements>
    <a:clrScheme name="Mountain">
      <a:dk1>
        <a:srgbClr val="000000"/>
      </a:dk1>
      <a:lt1>
        <a:srgbClr val="ffffff"/>
      </a:lt1>
      <a:dk2>
        <a:srgbClr val="0536b3"/>
      </a:dk2>
      <a:lt2>
        <a:srgbClr val="7cb7f8"/>
      </a:lt2>
      <a:accent1>
        <a:srgbClr val="3f9ee4"/>
      </a:accent1>
      <a:accent2>
        <a:srgbClr val="77b559"/>
      </a:accent2>
      <a:accent3>
        <a:srgbClr val="e4a81b"/>
      </a:accent3>
      <a:accent4>
        <a:srgbClr val="108bb4"/>
      </a:accent4>
      <a:accent5>
        <a:srgbClr val="da7328"/>
      </a:accent5>
      <a:accent6>
        <a:srgbClr val="ae589f"/>
      </a:accent6>
      <a:hlink>
        <a:srgbClr val="460245"/>
      </a:hlink>
      <a:folHlink>
        <a:srgbClr val="ac17d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Mountain</Template>
  <TotalTime>1407</TotalTime>
  <Application>LibreOffice/7.4.7.2$Linux_X86_64 LibreOffice_project/40$Build-2</Application>
  <AppVersion>15.0000</AppVersion>
  <Words>430</Words>
  <Paragraphs>6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vana</dc:creator>
  <dc:description/>
  <dc:language>en-US</dc:language>
  <cp:lastModifiedBy>Ivana</cp:lastModifiedBy>
  <dcterms:modified xsi:type="dcterms:W3CDTF">2012-01-30T14:00:00Z</dcterms:modified>
  <cp:revision>96</cp:revision>
  <dc:subject/>
  <dc:title>Workshop MAS Sokolovsk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Předvádění na obrazovce (4:3)</vt:lpwstr>
  </property>
  <property fmtid="{D5CDD505-2E9C-101B-9397-08002B2CF9AE}" pid="3" name="Slides">
    <vt:r8>12</vt:r8>
  </property>
</Properties>
</file>