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C9D-5016-4339-92AA-765D12603A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EBF0-DA68-4C29-A727-8F148D9FF9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4025-1E30-49B1-B089-80794C0742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5269-58EA-4BBD-9145-5BBA586693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5EC5-D925-498D-886D-962501084F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45A4-6BC4-42B0-928C-E5F9BE3F11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D933-1270-4376-9F7C-3B05BA5E00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568E-F511-40A3-BC33-94C4D9F7D5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82DC-CBA0-403F-85E7-A473890505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79FB-2C2B-4F4A-B8E9-79DA068E6C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A0EF-2307-46B0-A33A-4C737467CA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9C48-CF99-4A6B-BCEE-160812AF8A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AEBC-7CAE-4EF1-B845-E848897B30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6ECA-91F4-44F9-890C-161C277D39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81FE-A3CA-4F2B-8812-5A16F14413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socialni-zaclenovani.cz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6942240" y="6356520"/>
            <a:ext cx="216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cialni-zaclenovani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MPFrgPa4g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755640" y="1916280"/>
            <a:ext cx="7561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55640" y="5084640"/>
            <a:ext cx="77407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2015 -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Arial"/>
              </a:rPr>
              <a:t>26. 8. 2015  Královské Poříčí - Michal K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ritéria pro rozvažování, zda je lokalita vhodná pro KP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68360" y="1844640"/>
            <a:ext cx="8496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ílové skup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ymezení a posouzení velikosti CS vzhledem k lokalitě (jej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elik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strukturálnímu postižení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dimenzování ap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elikost, celistvost a "logičnost" území,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azba na ORP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bsorbční k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šestrannost (v čerpá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 lokalitě budou realizovány projekty z OPZ, OPVVV a to buď z každého OP jeden velký v počtu min.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líčových aktivit nebo několik menší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projekty z OPZ a OPVVV budou (v rámci možností) provázány tam, kde se zaměření OP setkává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dina, spolupráce školy a rodiny a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IROP je ke zvážení, není nutný, vhodnost KPSVL není určena jen investičním záměrem obce ne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ex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projekty jsou zaměřeny na všechny vymezené SVL v obci/v území, nejen na lokality, kde je majite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emovitostí obec, ale i tam, kde je vlastnictví soukrom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minimálně "lehčí" aktivity OPZ (poradenství, fakultativní aktivity, programy) by měly být realizovány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ždé SV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ováza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SPSZ je výrazně provázán v oblasti dlouhodobých cílů s klíčovými aktivitami projektů (tam, kde j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levantní), SPSZ tvoří jako celek jeden velký projektový zámě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1990800"/>
            <a:ext cx="849636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Podmínky koordinovaného přístupu k sociálně vyloučeným lokalitá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morandum o spolupráci mezi obcí a Agenturou zahrnující principy KP SV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chodiskem KP SVL je Strategický plán sociálního začleňování, jehož vlastníkem je mě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sto vyčlení jednoho pracovníka na 0,5 úvazku, který bude zodpovědný za implementaci Strategického plánu a koordinaci souvisejících projektových aktivit nejméně po dobu trvání KP SV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sto zřídí pracovní skupinu „Projekty a implementace“, která bude koordinovat projektové aktivity a monitorovat plnění plánu. Tato skupina bude působit v rámci lokálního partnerstv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nitoring indikátorů plnění (soustava indikátorů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184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ožnosti čerpání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1557360"/>
          <a:ext cx="7921800" cy="4608360"/>
        </p:xfrm>
        <a:graphic>
          <a:graphicData uri="http://schemas.openxmlformats.org/drawingml/2006/table">
            <a:tbl>
              <a:tblPr/>
              <a:tblGrid>
                <a:gridCol w="1652760"/>
                <a:gridCol w="1788840"/>
                <a:gridCol w="1119240"/>
                <a:gridCol w="3360960"/>
              </a:tblGrid>
              <a:tr h="7570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ční prog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ná alokace na 1 lokalitu KPSV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spoluúčast ob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né typy projektů v rámci KPSV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980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ost (OP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5 mi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ost, sociální služby, sociální bydlení, prevence kriminality, sociální bydlení, komunitní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2084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da, vzdělávání a výzkum (OPVV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mi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lní poradenské pracoviště, další vzdělávaní pedagogických pracovníků, podpora aktivit žáků, zapojení rodiny, školských poradenských zařízení, veřej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2064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ovaný regionální operační program (IRO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ní urč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ktura sociálních služeb, komunitních center, sociální bydlení (nákup, výstavba a rekonstrukce), výstavba, rekonstrukce, rozšíření a vybavení sociálních podniků, infrastruktura pro vzdělávání a odbornou příprav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nkrétní příklady možných projektů ve venkovských regio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41360" y="1844640"/>
            <a:ext cx="84963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rénní sociální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komunitní práce na ob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. 1 HPP na spádové území POÚ, působí přímo v sociálně vyloučených lokalit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Je zaměstnancem příslušných obecních úřadů, na poměrný úvaz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terénní sociální práce na obcích s nízkopříjmovými domácnost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podporuje propojení potřeb a existujících zdrojů v místní komunitě, změny v komunitě (zvyšování zaměstnanosti, snižování protiprávní činnosti, zlepšení situace dětí a mládeže - zapojení do volnočasových aktivit, zprostředkování V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PP u obce a dalších subjektů), kontakt mezi jednotlivci, skupinami a organizac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) prevence krimi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asistenti prevence kriminality, domovníci, programy prevence pro mláde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nkrétní příklady možných projektů ve venkovských regio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68360" y="1716120"/>
            <a:ext cx="8496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3) Podpora a rozvoj pracovních příležitost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pracovní poradenství, zprostředkování prá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Koordinace nástrojů aktivní politiky zaměstnanosti (VPP) + příprava a zprostředkování zaměstn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zvyšování kompetencí a kvalifikace uchazečů o zaměstn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snižování administrativních a jiných překážek pro zaměstnavatele i zaměst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yhledávání zdrojů a potenciálních realizátorů soc.podnikání: lesnictví, přeshraniční spolupráce a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4) Rozvoj regionálního vzdělávání a volnočasových aktiv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kolní poradenské pracoviště pro MŠ i ZŠ, předškolní a mateřské kluby, doučování, komunitní centrum, příprava a koordinace volnočasových aktivit pro ohrožené děti a mládež a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5) Sociální bydlení vč. investičního projektu z I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žnost ovlivnit místní situaci s bydlením pomocí nastavení pravidel, práce s dlužníky a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lo by vycházet z koncepce bytové politiky obc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68360" y="1865160"/>
            <a:ext cx="84963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Reportáž ASZ o začleňování na malé obci z Obrnic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9MPFrgPa4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íce info na stránkách Agentury pro sociální začleňování: www.socialni-zaclenovani.c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Metodika pro koordinovaný přístup k sociálně vyloučeným lokalitám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http://www.socialni-zaclenovani.cz/metodika-koordinovaneho-pristupu-k-socialne-vyloucenym-lokalit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ndler.mich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da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1990800"/>
            <a:ext cx="849636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Jak KP SVL vznikl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základě potřeby lépe koordinovat místní opatření v oblasti sociálního začleňování s ohledem na čerpání finančních prostředků z Evropských strukturálních a investičních fondů (ESI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Pro které obce slouží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ty, které mají na svém území sociálně vyloučené lokality, chtějí systematicky řešit problematiku sociálního vyloučení a potřebují k tomuto řešení podporu z prostředků ESI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to obce spolupracují nebo musí zahájit spolupráci s Agenturou pro sociální začleňová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Jaká je jeho cílová skupina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yvatelé sociálně vyloučených lokalit, ale také ostatní obyvatelé v obci, kteří se nacházejí ve zhoršené sociální či ekonomické situa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RO KOHO jsou projekty především urče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2520" y="1916280"/>
            <a:ext cx="849636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upiny obyvatel, kteří jsou ohroženi sociálním vyloučením a chudob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oby žijící v sociálně vyloučených lokalitách a v jejich okol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opříjmové skupiny obyv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louhodobě nezaměstnaní (opakovaně nezaměstna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nepříznivé sociální situaci žijící rodiny, děti, mláde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nio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oby se zdravotním postižení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dé bez dom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nické menšiny (zejména Romov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oby ohrožené závislostí nebo závislé na návykových látk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oby opouštějící ústavní zařízení nebo zařízení výkonu tres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68360" y="1990800"/>
            <a:ext cx="84963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Co to vlastně j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pecifický mechanismus čerpání finančních prostředků  z ESIF v období 2014+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ýká se 3 operačních programů: </a:t>
            </a: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Zaměstnanost - OP Z (2.1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Výzkum, Vývoj, Vzdělávání - OP VVV (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i="1" lang="cs-CZ" sz="1500" spc="-1" strike="noStrike">
                <a:solidFill>
                  <a:srgbClr val="c00000"/>
                </a:solidFill>
                <a:latin typeface="Arial"/>
              </a:rPr>
              <a:t>Integrovaný operační program – IROP (2.9 a, c, 2.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Jak to bude v praxi fungovat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 ve spolupráci s ASZ a partnery zmapuje potřebnost v oblasti sociálního vyloučení →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ategický plán sociálního začleň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 a partneři připraví projektové záměry na řešení dané problemati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 ve spolupráci s ASZ stanoví přibližný objem potřebných finančních prostředků pro jednotlivé operační výzv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ři ministerstva (MŠMT, MMR, MPSV) koordinovaně vypíší pro obce zapojené v KP SVL speciální výzvy, s alokacemi, které budou odpovídat místním potřebám (srpen 2015, prosinec 201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f5f5f"/>
                </a:solidFill>
                <a:latin typeface="Arial"/>
              </a:rPr>
              <a:t>ESIF a sociálně vyloučené lok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4000" y="2619360"/>
            <a:ext cx="849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3" descr="F:\mmr\lokality.jpg"/>
          <p:cNvPicPr/>
          <p:nvPr/>
        </p:nvPicPr>
        <p:blipFill>
          <a:blip r:embed="rId1"/>
          <a:stretch/>
        </p:blipFill>
        <p:spPr>
          <a:xfrm>
            <a:off x="1692360" y="2997360"/>
            <a:ext cx="5759280" cy="2808000"/>
          </a:xfrm>
          <a:prstGeom prst="rect">
            <a:avLst/>
          </a:prstGeom>
          <a:ln w="0">
            <a:noFill/>
          </a:ln>
        </p:spPr>
      </p:pic>
      <p:pic>
        <p:nvPicPr>
          <p:cNvPr id="59" name="Diagram 8" descr=""/>
          <p:cNvPicPr/>
          <p:nvPr/>
        </p:nvPicPr>
        <p:blipFill>
          <a:blip r:embed="rId2"/>
          <a:stretch/>
        </p:blipFill>
        <p:spPr>
          <a:xfrm>
            <a:off x="1468440" y="1981080"/>
            <a:ext cx="6108840" cy="4078440"/>
          </a:xfrm>
          <a:prstGeom prst="rect">
            <a:avLst/>
          </a:prstGeom>
          <a:ln w="0">
            <a:noFill/>
          </a:ln>
        </p:spPr>
      </p:pic>
      <p:sp>
        <p:nvSpPr>
          <p:cNvPr id="60" name="Šipka dolů 9"/>
          <p:cNvSpPr/>
          <p:nvPr/>
        </p:nvSpPr>
        <p:spPr>
          <a:xfrm rot="1908000">
            <a:off x="3498480" y="4795920"/>
            <a:ext cx="384120" cy="4064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Šipka dolů 10"/>
          <p:cNvSpPr/>
          <p:nvPr/>
        </p:nvSpPr>
        <p:spPr>
          <a:xfrm rot="18943200">
            <a:off x="5268960" y="4841640"/>
            <a:ext cx="384120" cy="4064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Šipka dolů 11"/>
          <p:cNvSpPr/>
          <p:nvPr/>
        </p:nvSpPr>
        <p:spPr>
          <a:xfrm rot="17010000">
            <a:off x="5578920" y="4365000"/>
            <a:ext cx="385920" cy="4064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Šipka dolů 12"/>
          <p:cNvSpPr/>
          <p:nvPr/>
        </p:nvSpPr>
        <p:spPr>
          <a:xfrm rot="5188800">
            <a:off x="2771640" y="3789360"/>
            <a:ext cx="384120" cy="40608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Šipka dolů 13"/>
          <p:cNvSpPr/>
          <p:nvPr/>
        </p:nvSpPr>
        <p:spPr>
          <a:xfrm rot="4128000">
            <a:off x="2986200" y="4364640"/>
            <a:ext cx="385920" cy="4064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68360" y="1990800"/>
            <a:ext cx="8496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Jaké jsou výhody KP SVL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povídající alokace finančních prostředků na lokálně definované potřeby ve strategickém plánu soc. začleňování (SPSZ) – OP Z, OP VV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ordinace výzev – lepší provázání jednotlivých aktiv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nší konkurence ve srovnání s otevřenými výzvam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řívější návazné financování stávajících aktiv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pora ASZ – definování potřeb a vhodných opatření, příprava projektových záměrů a žádostí o    dot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oordinovaný přístup k sociálně vyloučeným lokalitám – KP SV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68360" y="1990800"/>
            <a:ext cx="849636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Podmínky koordinovaného přístup k sociálně vyloučeným lokalitá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morandum o spolupráci zahrnující principy KP SV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chodiskem KP SVL je Strategický plán sociálního začleňování, jehož vlastníkem je mě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sto vyčlení jednoho pracovníka na 0,5 úvazku, který bude zodpovědný za implementaci Strategického plánu a koordinaci souvisejících projektových aktivit nejméně po dobu trvání KP SV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sto zřídí pracovní skupinu „Projekty a implementace“, která bude koordinovat projektové aktivity a monitorovat plnění plánu. Tato skupina bude působit v rámci lokálního partnerstv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nitoring indikátorů plnění (soustava indikátorů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PSVL je určen pro obce, kte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68360" y="1700280"/>
            <a:ext cx="849636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tějí systematicky řešit problém sociálního vyloučení na svém území (zejména SVL) a budou k tomu potřebovat podporu z ES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ádají využití více než 1 operačního programu (v rámci KPSVL budou koordinovány výzvy z OPZ, OP VVV a IR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ádají podání více než jednoho či dvou projek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 mají vybudován tým či odborné pracovníky pro zpracování a realizaci projektů z ESIF, tak i pro projektově nezkušené (těm poslouží podpora Agent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ádají využít zejména OPZ, neboť k SPSZ bude MPSV vázat prostředky vyhrazené na projekty plánované v rámci SPS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tějí využít možnosti výstavby a rekonstrukce bytů pro účely sociálního bydlení, neboť v rámci IROP bude vypsána výzva, která bude určena pouze pro obce a partnery spolupracují pouze v režimu KPSVL, čímž se pro žadatele omezuje konkurenční prostře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iž v uplynulém období realizovaly rozsáhlé projekty, které plánují nadále rozvíjet (i s ohledem na podmínky udržitelnosti výstupů dosavadních projekt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24000" y="112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PSVL naopak není vhodný 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68360" y="1700280"/>
            <a:ext cx="84963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které nechtějí řešit všechny nebo větší část oblastí, které se sociálního vyloučení týkají, dohromady (služby, bydlení, zaměstnanost, vzdělávání, bezpeč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lmi malé obce s malým počtem sociálně vyloučených obyvat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PSVL předpokládá relativně vyšší alokaci do území, ale zároveň efektivní a účelné využití prostředků, včetně dostatečného počtu oprávněných příjemců podpory z cílových skupin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o malé obce je vhodné spojování do svazků v území, které je přirozeně propojené 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 KPSVL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UZE V RÁMCI SPOLUPRÁCE VÍCE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468360" y="1700280"/>
            <a:ext cx="8207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3:55:07Z</dcterms:created>
  <dc:creator>eva</dc:creator>
  <dc:description/>
  <dc:language>en-US</dc:language>
  <cp:lastModifiedBy>MAS</cp:lastModifiedBy>
  <dcterms:modified xsi:type="dcterms:W3CDTF">2015-08-27T10:26:22Z</dcterms:modified>
  <cp:revision>264</cp:revision>
  <dc:subject/>
  <dc:title>Slide 1</dc:title>
</cp:coreProperties>
</file>